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C14-A7D0-4513-8356-3C297024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967-F4E0-4A11-9563-E9BB0518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30E-83D2-4585-8DCC-A2EBF108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F6E-2A86-4F6A-AE83-7E0A86C7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1F9-8557-45AF-AD5F-152FD924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B61-FB91-4558-8FE3-83547C3A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D3B-3C13-4EAB-BD9E-08581F1D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DC4-B268-48C6-96A5-1010933E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573-8324-4EBE-8BA9-D48EC99B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A20-4172-4FF3-A83B-98E9C7A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453-E234-4FB5-A949-B0675472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AEF-5FF0-42B9-B4E0-96F629C0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DD9E-6CB2-414A-8E95-1B15F76B833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3B6D-87ED-4C05-B827-6C6FC839F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onstitution of th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32000" y="2997360"/>
            <a:ext cx="67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aciel Barbosa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PT)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yril Burkley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Michael Hoffmann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DE) 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Romanas Krivickas (L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Albert Leone-Ganado (M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Saba Mylvaganam (NO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e Papadourakis (GR)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Daniel Pasquet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(FR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ios Tsirigot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(G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580-88F9-4E9E-9364-F2E3DCC718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58920" y="2852640"/>
          <a:ext cx="6864480" cy="2446560"/>
        </p:xfrm>
        <a:graphic>
          <a:graphicData uri="http://schemas.openxmlformats.org/drawingml/2006/table">
            <a:tbl>
              <a:tblPr/>
              <a:tblGrid>
                <a:gridCol w="1373040"/>
                <a:gridCol w="1373400"/>
                <a:gridCol w="1371600"/>
                <a:gridCol w="1373040"/>
                <a:gridCol w="1373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litie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reports/thesi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8E6-0585-4C7D-B36D-D1065ADE73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. Evaluation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468360" y="2276640"/>
            <a:ext cx="7488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frequency of the visit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size of the visiting pa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4.3 per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How is it composed of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s:  86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dustrial:  55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duration of the visit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verage 2.3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m do the panel meet during their vis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udents  91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 staff 95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chnical staff  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ministrative staff  82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mployers  36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raduates  41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EEA-78A3-4630-A03B-099E33F9E0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11280" y="2852640"/>
            <a:ext cx="806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To whom do the review panel repor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50%    university  32%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independent agency   41%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 makes the final decision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55%    independent agency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6%  no answer 9%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are the different possible decision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ll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9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creditation for reduced period of time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ditional non-compulsory recommendation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EBB-52AD-4CD7-AED9-4EA5BE8D33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ies -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9640" y="278136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some countries there is not yet any accredi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ient from program accreditation to a system accreditation in some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ho pays the expenses (government, university, other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ster programs to be accredited in every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industry placement compulsory in every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st ECTS criteria be completed to assess methodology and content in order to produce comparable accreditation procedu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676-36EB-4837-901E-419E4C310C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been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9640" y="278136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velopment of a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ave sent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istical analysis of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ustering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ssemination through SEFI (Aalborg) and EAEEIE (Talli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00C-B514-41B0-BADA-005794F1CE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mains to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278136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lection of further question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alysis of the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ther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rite papers (specific to clusters or/and synthe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CB9-11FE-4270-AD54-561F1012F4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fferent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763640" y="278136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Writ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all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end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D. Pasqu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Receiv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M. Barb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s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G. Papadoura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ED7-FFE2-453B-9B56-9AB3B6E70D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547640" y="3213000"/>
            <a:ext cx="6705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al results of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at Pragu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at CETSIS meeting in Borde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EAEEIE in Tallinn and at SEFI in Aalb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A68-8122-4C06-8639-C3D167D536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Answers to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63640" y="278136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22 received from 18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ome countries: several accreditatio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(DE: 6, FR: 3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44D-E355-4A69-AC61-99DB5E772F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38080" y="2209680"/>
            <a:ext cx="80773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compulsory to deliver engineering degrees in EIE?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6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by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govern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Universit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5%  (several possi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rofessional bod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ndependent agency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to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programm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depart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he whole institution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The accreditation body is constituted b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ngineers in industr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mbers of accreditation bod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A76-057A-4E55-875E-9DD0A0B105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2209680"/>
            <a:ext cx="80773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Is the accreditation body itself subject to an accreditation or validation proces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Yes 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Are there links with other accreditation bodi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uropean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ften do not know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Does the accreditation include quality assurance measur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7CE-2F3E-440D-B86F-9EE0B9F5C4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4360" y="2349360"/>
          <a:ext cx="7632720" cy="2803680"/>
        </p:xfrm>
        <a:graphic>
          <a:graphicData uri="http://schemas.openxmlformats.org/drawingml/2006/table">
            <a:tbl>
              <a:tblPr/>
              <a:tblGrid>
                <a:gridCol w="1525320"/>
                <a:gridCol w="1527120"/>
                <a:gridCol w="1527480"/>
                <a:gridCol w="1527120"/>
                <a:gridCol w="15256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ic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 examination script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tion paper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53"/>
          <p:cNvSpPr/>
          <p:nvPr/>
        </p:nvSpPr>
        <p:spPr>
          <a:xfrm>
            <a:off x="1763640" y="1844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CB9-2C67-4364-A710-88E5CB0E71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2924280"/>
          <a:ext cx="8209080" cy="2073240"/>
        </p:xfrm>
        <a:graphic>
          <a:graphicData uri="http://schemas.openxmlformats.org/drawingml/2006/table">
            <a:tbl>
              <a:tblPr/>
              <a:tblGrid>
                <a:gridCol w="2303640"/>
                <a:gridCol w="1081080"/>
                <a:gridCol w="1339920"/>
                <a:gridCol w="1527120"/>
                <a:gridCol w="19573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s´perform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ademic staff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ruitmen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39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443-558E-4FAF-A85C-9DBD7EA831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general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Tallinn June 29th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4360" y="2924280"/>
          <a:ext cx="7632720" cy="2803320"/>
        </p:xfrm>
        <a:graphic>
          <a:graphicData uri="http://schemas.openxmlformats.org/drawingml/2006/table">
            <a:tbl>
              <a:tblPr/>
              <a:tblGrid>
                <a:gridCol w="1525320"/>
                <a:gridCol w="1527120"/>
                <a:gridCol w="1527480"/>
                <a:gridCol w="1527120"/>
                <a:gridCol w="15256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 activitie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ment of gradu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boration with industry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35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CC6-E8F8-4D38-9AD5-714CA00EE5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12:39:06Z</dcterms:created>
  <dc:creator>pasquet</dc:creator>
  <dc:description/>
  <dc:language>en-US</dc:language>
  <cp:lastModifiedBy>pasquet</cp:lastModifiedBy>
  <dcterms:modified xsi:type="dcterms:W3CDTF">2008-06-26T15:28:28Z</dcterms:modified>
  <cp:revision>31</cp:revision>
  <dc:subject/>
  <dc:title>Surveyor working group meeting Craiova June 3rd, 2006</dc:title>
</cp:coreProperties>
</file>