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1763-9528-48A5-AD7A-D8D73B7FA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3F6D-0453-40E9-B5E8-07A8FF919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5E1D-41E9-4730-A964-29F7FE855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FCFA-0B0D-41B8-9121-2B8970285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50E0-D71E-4AC0-828B-15A382527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DFCB-805B-4204-BC42-830F011A0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C06D-54E9-4C6D-B0E6-3102697B1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6E37-C30C-4F95-B53C-462F0E121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CBFD-18E3-4AE7-87A0-449F0ED10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13FD-0D83-47D1-996D-B005C959A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684C-EFF0-4BFD-80D3-DE8B13E4E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9B3D-AA48-42C1-8325-2198AFCA4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46680" y="6553080"/>
            <a:ext cx="22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llinn: 29-06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E5ED-012A-4FCE-AD15-28A34AECF9DB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A872-3A6B-4F2F-A586-A8B9D19292C4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9067680" y="6300720"/>
          <a:ext cx="83844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67680" y="6300720"/>
                    <a:ext cx="838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8148600" y="6318360"/>
          <a:ext cx="681120" cy="53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8600" y="6318360"/>
                    <a:ext cx="681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95200" y="27468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on T3.3 of Surveyor: Portal on EIE curri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680" y="1389240"/>
            <a:ext cx="671184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iv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Survey on the state of the art on mobility in EI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mit our idea to facilitate mobility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67800" y="19940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estionn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3240" y="2857680"/>
            <a:ext cx="69148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n experiment on our Propositions to facili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ity in the framework of ERASMUS PROGRAM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5760" y="2341440"/>
            <a:ext cx="51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5360" y="3344760"/>
            <a:ext cx="51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36280" y="30132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ortal on E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urri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54920" y="2876400"/>
            <a:ext cx="0" cy="8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54920" y="187956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520" y="4430880"/>
            <a:ext cx="966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 on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practice on mobility and existing International master (questionnair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port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ess result on a Master Mobility Portal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7040" y="40114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Outpu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9080" y="4410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July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200" y="6102360"/>
            <a:ext cx="43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cc"/>
                </a:solidFill>
                <a:latin typeface="Comic Sans MS"/>
              </a:rPr>
              <a:t>(…to continue with ELLEIE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44720" y="431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ases of th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4960" y="1379520"/>
            <a:ext cx="9641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1 : Design and submission of Questionnaires   …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on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2 : Extracting data from questionnaires        …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n Progress (Jan Ligu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3 : Web portal for the experiment                 …Done… (C. Simon J.C. Burguil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ase 4 : Experimentation of a Master Network     … In Progr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86640" y="3090960"/>
            <a:ext cx="24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mati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12680" y="4073400"/>
            <a:ext cx="693720" cy="113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60720" y="3525840"/>
            <a:ext cx="555444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261280" y="3343320"/>
            <a:ext cx="1079640" cy="1085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6640" y="5257080"/>
            <a:ext cx="41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aster Enerxía e sustentabilidad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23560" y="439272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aster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9720" y="4638600"/>
            <a:ext cx="19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Master Génie Elec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in page of the web por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1249200"/>
            <a:ext cx="8707320" cy="537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41760" y="19342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1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Current Situation of Erasmus mobility program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9520" y="2513880"/>
            <a:ext cx="89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2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Difficulties encountered during the mobility agreement preparation.</a:t>
            </a:r>
            <a:r>
              <a:rPr b="0" lang="e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960" y="3080520"/>
            <a:ext cx="9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3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Results on Mobility Survey: The student and mobility supervisor point of view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6280" y="3708000"/>
            <a:ext cx="84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4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Proposed Action in the framework of EIE-Surveyor and ELLEIE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Portal on EIE curri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640" y="4425120"/>
            <a:ext cx="58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hapter 5: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ort and Long terms expected impac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5720" y="33192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Grossary of the repor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170320"/>
            <a:ext cx="40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onclusions and 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9880" y="1512720"/>
            <a:ext cx="269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749160" y="14302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esentation of the task in the framework of EIE-Surveyor 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perso</cp:lastModifiedBy>
  <cp:lastPrinted>2001-02-27T14:19:08Z</cp:lastPrinted>
  <dcterms:modified xsi:type="dcterms:W3CDTF">2008-06-29T21:21:15Z</dcterms:modified>
  <cp:revision>566</cp:revision>
  <dc:subject/>
  <dc:title>Aucun titre de diapositive</dc:title>
</cp:coreProperties>
</file>