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5B6-2DAC-41EA-8141-D4A0FFBE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A12-150F-47F9-A73B-ED81949E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B9F-B63D-45A5-AF81-A2758EA6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B34-5511-49DB-A6ED-CB12C9AF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B9D2-B6D6-4731-9479-9B489E45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F2E3-99B3-42B2-B8E6-52DCC650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FB46-175B-4172-9726-69DF54D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7B6-86E8-4CC4-9BB9-8EE55BC7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463-1F92-4869-B4AA-D3CDCD5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754C-0D43-4B79-BABF-437DD42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C5F-773F-41E7-BB8E-F23F94B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C5E-D455-4433-99A4-3F7ED89E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B55-F3A8-4C3D-990A-4B13092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2D4-8A69-42C8-9EB4-28D3CF3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3751-E986-408C-840D-3FCD84CA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E136-5E61-41FF-A6D4-0777374A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73A4-CC2C-47AD-8A83-F2AD5CC5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C90-0579-4894-8905-ED4A3C5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890-4E8A-43F7-896C-516E8C7A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8EF-5366-4820-94F1-45ACC65A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886-7331-4424-A042-1DE38C3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A2-B87A-4DE8-B559-DE5D77A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958-C11F-4B50-ACC7-6E12DC7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5B8-1CAB-40F7-A942-3E6E31D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A058-C60E-411E-8E7C-520320305A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005E-DBC0-4BA5-96CC-6210E91AE0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ccecff"/>
                </a:solidFill>
                <a:latin typeface="Arial Black"/>
              </a:rPr>
              <a:t>Lisbon Convention and Recognition Issues in the European Higher Education Area</a:t>
            </a:r>
            <a:br>
              <a:rPr sz="3600"/>
            </a:br>
            <a:br>
              <a:rPr sz="4000"/>
            </a:br>
            <a:br>
              <a:rPr sz="3200"/>
            </a:br>
            <a:r>
              <a:rPr b="0" lang="et-EE" sz="2800" spc="-1" strike="noStrike">
                <a:solidFill>
                  <a:srgbClr val="ccecff"/>
                </a:solidFill>
                <a:latin typeface="Arial Black"/>
              </a:rPr>
              <a:t>19th EAIEE Annual Conference</a:t>
            </a:r>
            <a:br>
              <a:rPr sz="3200"/>
            </a:br>
            <a:r>
              <a:rPr b="0" lang="et-EE" sz="2400" spc="-1" strike="noStrike">
                <a:solidFill>
                  <a:srgbClr val="ccecff"/>
                </a:solidFill>
                <a:latin typeface="Arial Black"/>
              </a:rPr>
              <a:t>June 29 – July 2, 2008</a:t>
            </a:r>
            <a:br>
              <a:rPr sz="2400"/>
            </a:br>
            <a:r>
              <a:rPr b="0" lang="et-EE" sz="2400" spc="-1" strike="noStrike">
                <a:solidFill>
                  <a:srgbClr val="ccecff"/>
                </a:solidFill>
                <a:latin typeface="Arial Black"/>
              </a:rPr>
              <a:t>Tallin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Gunnar Vah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gunnar@archimedes.e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issues and solutions in the Bologna Process (II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Progress in less traditional recognition c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Qualifications awarded by the transnational provi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Joint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Lifelo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Recognition between EHEA and other parts of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of learning outcom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Focusing on learning outcomes – high expectations from qualific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and Qualifications Frame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The definition </a:t>
            </a:r>
            <a:r>
              <a:rPr b="0" lang="et-EE" sz="3200" spc="-1" strike="noStrike" u="sng">
                <a:solidFill>
                  <a:srgbClr val="ffffff"/>
                </a:solidFill>
                <a:uFillTx/>
                <a:latin typeface="Verdana"/>
              </a:rPr>
              <a:t>learning outcome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will be of key importance, as it will be in the further development of a fair recognition based on WHAT A PERSON KNOWS AND IS ABLE TO DO rather than on the formal procedures that have led to the qualif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 Netwo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ENIC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European Network of Information Centres on Academic Recognition and Mobilit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Verdana"/>
              </a:rPr>
              <a:t>Council of Europe / UNESCO-CE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NARIC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National Academic Recognition Information Centr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Verdana"/>
              </a:rPr>
              <a:t>European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Common tasks and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ffffff"/>
                </a:solidFill>
                <a:uFillTx/>
                <a:latin typeface="Verdana"/>
              </a:rPr>
              <a:t>TWO MAIN FIEL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formation provi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Assessment of foreign qualif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5400" spc="-1" strike="noStrike">
                <a:solidFill>
                  <a:srgbClr val="ccec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 in EH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Is an important component of the whole development towards the European Higher Education Ar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Movement of students and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ternationalisation of higher education institu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New skills and international experience in labor mar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Verdana"/>
              </a:rPr>
              <a:t>Academic recog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The recognition of a qualification </a:t>
            </a:r>
            <a:r>
              <a:rPr b="1" lang="et-EE" sz="2000" spc="-1" strike="noStrike">
                <a:solidFill>
                  <a:srgbClr val="ffffff"/>
                </a:solidFill>
                <a:latin typeface="Verdana"/>
              </a:rPr>
              <a:t>for the purpose of further studies</a:t>
            </a: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. Main task is to assess whether the applicant is capable of continuing studies in the chosen direction and the chosen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Verdana"/>
              </a:rPr>
              <a:t>Professional recog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The recognition of a qualification </a:t>
            </a:r>
            <a:r>
              <a:rPr b="1" lang="et-EE" sz="2000" spc="-1" strike="noStrike">
                <a:solidFill>
                  <a:srgbClr val="ffffff"/>
                </a:solidFill>
                <a:latin typeface="Verdana"/>
              </a:rPr>
              <a:t>for the purpose of employment</a:t>
            </a:r>
            <a:r>
              <a:rPr b="0" lang="et-EE" sz="2000" spc="-1" strike="noStrike">
                <a:solidFill>
                  <a:srgbClr val="ffffff"/>
                </a:solidFill>
                <a:latin typeface="Verdana"/>
              </a:rPr>
              <a:t> in a certain profession. Main task is to found out whether the knowledge and professional skills of the applicant are sufficient to pursue a particular profe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de jure</a:t>
            </a: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 – regulated prof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de facto</a:t>
            </a:r>
            <a:r>
              <a:rPr b="0" lang="et-EE" sz="1800" spc="-1" strike="noStrike">
                <a:solidFill>
                  <a:srgbClr val="ffffff"/>
                </a:solidFill>
                <a:latin typeface="Verdana"/>
              </a:rPr>
              <a:t> – non-regulated prof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International legal instru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Conven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Recommendations (subsidiary tex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Declar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EU direc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Bilateral and multilateral agre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Co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Convention on the Recognition of Qualifications concerning Higher Education in the European Region</a:t>
            </a: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 (The Lisbon Recognition Convention), 1997 – </a:t>
            </a:r>
            <a:r>
              <a:rPr b="0" i="1" lang="et-EE" sz="3200" spc="-1" strike="noStrike">
                <a:solidFill>
                  <a:srgbClr val="ffffff"/>
                </a:solidFill>
                <a:latin typeface="Verdana"/>
              </a:rPr>
              <a:t>Council of Europe and UN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Verdana"/>
              </a:rPr>
              <a:t>46 ratifications/acces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Lisbon Recognition Convention – some key concep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Applicants are entitled to a fair recognition of their qualif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Within reasonable time li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Transparent, coherent and reliable procedures and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ight to app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ecognition unless substantial differences can be sh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Importance of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Recognition information centres (national EN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Verdana"/>
              </a:rPr>
              <a:t>Implementation mechanis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The Lisbon Recognition Convention (outline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am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 - Defin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I - The Competence of auth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II - Basic principles related to the assessment of qualif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V - Recognition of qualifications giving access to highe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 - Recognition of periods of stu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 - Recognition of higher education qualif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I - Recognition of qualifications held by refugees, displaced persons and persons in a refugee-like situ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VIII - Information on the assessment of higher education institutions and program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IX - Information on recognition matt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X - Implementation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tion XI - Final clau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ccecff"/>
                </a:solidFill>
                <a:latin typeface="Arial"/>
              </a:rPr>
              <a:t>Subsidiary docu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Recommendation on the Recognition of Joint Degrees (200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Recommendation on Criteria and Procedures for the Assessment of Foreign Qualifications (200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ode of Good Practice in the Provision of Transnational Education (2001, revised 2007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Joint ENIC/NARIC Charter of Activities and Services (200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ccecff"/>
                </a:solidFill>
                <a:latin typeface="Arial"/>
              </a:rPr>
              <a:t>Recognition issues and solutions in the Bologna Pro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Reform and the recognition of degree struc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Incl. comparision and recognition of “old” qualif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Verdana"/>
              </a:rPr>
              <a:t>Quality assurance – a necessary precondition for recogn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lose link between the QA and recogn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Verdana"/>
              </a:rPr>
              <a:t>Cooperation between the net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7:35:55Z</dcterms:created>
  <dc:creator>gunnar</dc:creator>
  <dc:description/>
  <dc:language>en-US</dc:language>
  <cp:lastModifiedBy>gunnar</cp:lastModifiedBy>
  <dcterms:modified xsi:type="dcterms:W3CDTF">2008-06-27T12:42:26Z</dcterms:modified>
  <cp:revision>41</cp:revision>
  <dc:subject/>
  <dc:title>Bologna Process Implementation in Estonia</dc:title>
</cp:coreProperties>
</file>