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715B-BE69-4F10-88C2-17452B1F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3DF-19D4-4E3D-9B8C-80E99529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8B5B-B5D4-41F7-8D0F-A2ECA8A3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089D-C527-4AEC-8BD0-CE436356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6371-6A38-4CDF-98FA-18A91B14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FCB0-C117-4F35-9351-2B038C1D7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6044-F73C-43FB-8858-B6CC660D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3BEB-51C4-4CF9-B418-19766108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E133-3F58-4EA6-A3BB-48B53A688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8A45-1B9D-415C-8014-D3E21D07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280-72F7-4C10-AD2D-D3E3AC8B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9EF1-4F87-4292-B936-E8788E23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88C-1AFC-49FD-B586-BF144896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952-23CB-46EB-A443-5613A27D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66DF-DE47-4D5B-9627-70AD03AC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4A58-70C2-4B0E-8BBC-3C1888B0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2D39-ADC4-4691-B17D-05BF091A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0C64-0178-4567-A20E-787E8FED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FF0-3DA8-4EB5-A0B3-60151AA9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B03F-B584-48AE-80AB-2304FF71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BF7B-B909-4ECA-BB69-01ED77F3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27C-8B3C-4ABB-BB35-240E1C442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B91B-F668-44AF-B986-378078ACC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E16-EFD8-4F87-9709-91F6F293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A72-0054-4CE6-8680-85AE9E2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5CC-98BE-40BF-8D14-42B3A5BC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B40-B02A-4EC1-B408-C24183CF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087-2BED-4364-A14C-9546FF50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8B3-4E6D-488C-9C14-3D711598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5502-9DE2-4ED9-BEDC-5ABF72C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84D0-7740-479D-B3FB-9754A956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3A6A-B3CA-49A1-AAA5-F1513C5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F7C7-B1FF-4202-B86F-51F932F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C14-1F74-42FD-A9F0-FF99FB3F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E48-21FF-493F-976E-C14144C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117-FE1D-489C-8D28-26F426E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2EC1-1B37-4D79-9CCB-94D9DF0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1C1-6F1E-4E1A-B5C6-22B312C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B9AF-F361-4C41-B5A3-408260B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1463-92C9-43AB-A8F3-C2C04697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688-BF7D-4815-B80E-2C34FB94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8635-EB9D-47CC-9DF0-CF24F434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9869A-0E18-42BD-BE77-BEB1AE9B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2FC3-F9F6-4C27-89C3-79FE84E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83A8-1475-4DAD-B850-D89C73E2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8679-20CA-4BD3-A81E-31DD449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B0B-D565-4FAC-A321-3D88C70A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9E20-F296-44B5-97CF-11AAD01C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744B-A2F4-4DD7-8D5A-79A1018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B6AC-5879-4F3F-A237-1AEF4E1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4CCA-DE71-48AD-94A3-B613CF7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CDBE-97E7-4726-BDBF-0B69571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0A7A-5CF8-40B5-89F7-AD55FD6D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3A53-1459-46B3-B3EC-82CC5E25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1C5-D2A8-4213-9373-D78C0DCC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803-6808-48E9-A171-022A1F8C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B79-2FFA-4658-927D-7870A757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194-88BA-4FC4-95A9-4A86311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BD1-03D7-4DBC-AC9A-93F9EE2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E7E-CBB1-40D9-A435-F37CE207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2DF7-3787-4562-8851-3567A366576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8 Imagen" descr="logo_EIE_Surveyor_without_text.gif"/>
          <p:cNvPicPr/>
          <p:nvPr/>
        </p:nvPicPr>
        <p:blipFill>
          <a:blip r:embed="rId2"/>
          <a:stretch/>
        </p:blipFill>
        <p:spPr>
          <a:xfrm>
            <a:off x="0" y="0"/>
            <a:ext cx="12574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2AF-E76C-4DA9-B53C-DC868AC4374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8 Imagen" descr="logo_EIE_Surveyor_without_text.gif"/>
          <p:cNvPicPr/>
          <p:nvPr/>
        </p:nvPicPr>
        <p:blipFill>
          <a:blip r:embed="rId2"/>
          <a:stretch/>
        </p:blipFill>
        <p:spPr>
          <a:xfrm>
            <a:off x="0" y="0"/>
            <a:ext cx="1257480" cy="1133640"/>
          </a:xfrm>
          <a:prstGeom prst="rect">
            <a:avLst/>
          </a:prstGeom>
          <a:ln w="0">
            <a:noFill/>
          </a:ln>
        </p:spPr>
      </p:pic>
      <p:pic>
        <p:nvPicPr>
          <p:cNvPr id="90" name="9 Imagen" descr="logo_EIE_Surveyor_without_text.gif"/>
          <p:cNvPicPr/>
          <p:nvPr/>
        </p:nvPicPr>
        <p:blipFill>
          <a:blip r:embed="rId3"/>
          <a:stretch/>
        </p:blipFill>
        <p:spPr>
          <a:xfrm>
            <a:off x="0" y="5724360"/>
            <a:ext cx="1257480" cy="1133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55C-23E9-4F63-B94B-5B033ED889A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ahar.web.tr/Surve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5240" y="277920"/>
            <a:ext cx="755784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33"/>
                </a:solidFill>
                <a:latin typeface="Garamond"/>
              </a:rPr>
              <a:t>Cataloguing and Quality Assessment</a:t>
            </a:r>
            <a:br>
              <a:rPr sz="4000"/>
            </a:br>
            <a:r>
              <a:rPr b="0" lang="es-ES" sz="4000" spc="-1" strike="noStrike">
                <a:solidFill>
                  <a:srgbClr val="006633"/>
                </a:solidFill>
                <a:latin typeface="Garamond"/>
              </a:rPr>
              <a:t>of Some Resources in EIE Available Through the Internet 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9760" y="3313080"/>
            <a:ext cx="783576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Dervis Z. Deniz, Denis Genon-Catalot,</a:t>
            </a:r>
            <a:br>
              <a:rPr sz="3000"/>
            </a:br>
            <a:r>
              <a:rPr b="0" lang="es-ES" sz="3000" spc="-1" strike="noStrike">
                <a:solidFill>
                  <a:srgbClr val="006633"/>
                </a:solidFill>
                <a:latin typeface="Garamond"/>
              </a:rPr>
              <a:t> Jose L. Mar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Surveyor T2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Tallinn, 29 June, 200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09760" y="195120"/>
            <a:ext cx="80816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8640" y="277920"/>
            <a:ext cx="7327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80960"/>
            <a:ext cx="784872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2 Work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s 1-4 &amp; Pilot 5 (Fi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2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mailing/contact suppor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at: e-Resources for the e-cat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Surv: Survey results for e-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outcomes &amp;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392040" y="0"/>
            <a:ext cx="8290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57200" y="299880"/>
            <a:ext cx="822960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7760" y="277920"/>
            <a:ext cx="7439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T2 Timeline </a:t>
            </a:r>
            <a:br>
              <a:rPr sz="4200"/>
            </a:br>
            <a:r>
              <a:rPr b="0" lang="es-ES" sz="2600" spc="-1" strike="noStrike">
                <a:solidFill>
                  <a:srgbClr val="006633"/>
                </a:solidFill>
                <a:latin typeface="Garamond"/>
              </a:rPr>
              <a:t>Updated (“Tallinn”) 29 June, 2008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476280" y="1606680"/>
          <a:ext cx="7931160" cy="42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606680"/>
                    <a:ext cx="793116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Line 4"/>
          <p:cNvSpPr/>
          <p:nvPr/>
        </p:nvSpPr>
        <p:spPr>
          <a:xfrm>
            <a:off x="7756560" y="2195640"/>
            <a:ext cx="22320" cy="61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80320" y="21319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34800" y="277920"/>
            <a:ext cx="76993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pected outcomes &amp; contrib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20840" y="1068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ve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Surv linked to 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valuation rub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79000" indent="-27792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9000" indent="-27792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eighting of th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9000" indent="-27792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sessment of the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ool se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Sur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-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st data: p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3640" y="277920"/>
            <a:ext cx="7759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2 objectives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 schematic descrip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712800" y="1994040"/>
            <a:ext cx="3600360" cy="1873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E resour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5030640" y="2208240"/>
            <a:ext cx="1511280" cy="1008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16240" y="2446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M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4384800" y="26427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4960800" y="3651120"/>
            <a:ext cx="1511280" cy="1008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ur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097160" y="3578400"/>
            <a:ext cx="64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743160" y="39592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624280" y="147168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1,2,3,4&amp;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224720" y="4849920"/>
            <a:ext cx="30459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ing support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808520" y="5302080"/>
            <a:ext cx="1193760" cy="703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470280" y="530712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6"/>
          <p:cNvCxnSpPr>
            <a:stCxn id="152" idx="2"/>
            <a:endCxn id="153" idx="2"/>
          </p:cNvCxnSpPr>
          <p:nvPr/>
        </p:nvCxnSpPr>
        <p:spPr>
          <a:xfrm flipH="1" rot="16200000">
            <a:off x="3564000" y="4409640"/>
            <a:ext cx="429120" cy="20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17"/>
          <p:cNvCxnSpPr>
            <a:stCxn id="153" idx="4"/>
            <a:endCxn id="148" idx="3"/>
          </p:cNvCxnSpPr>
          <p:nvPr/>
        </p:nvCxnSpPr>
        <p:spPr>
          <a:xfrm flipH="1" flipV="1">
            <a:off x="5716080" y="4659120"/>
            <a:ext cx="286560" cy="995760"/>
          </a:xfrm>
          <a:prstGeom prst="bentConnector4">
            <a:avLst>
              <a:gd name="adj1" fmla="val -80000"/>
              <a:gd name="adj2" fmla="val 677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Line 18"/>
          <p:cNvSpPr/>
          <p:nvPr/>
        </p:nvSpPr>
        <p:spPr>
          <a:xfrm flipH="1">
            <a:off x="6146280" y="5994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0" y="582480"/>
            <a:ext cx="7920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)</a:t>
            </a:r>
            <a:br>
              <a:rPr sz="38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for e-cataloging e-resources (Santand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catalog database with records holding catalog ent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s to contain information identifying resources, contents and provide a link to its Internet si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forms based user interf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hors + others to add information about e-learning material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5840" y="277560"/>
            <a:ext cx="79581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2 Work progress (ii)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Santander, Craiova, Wells, Bratislava &amp; Prague decisions…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47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based User-Interface for displaying information in the e-catalog database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M (Sharable Content/Courseware Object Reference Model)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etadat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d as a potential standard to be studied for classification of e-learning resour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raiova meeting, decision to use the SCORM as a basis for classif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Bratislava meeting the questionnaire was finalized. Demonstrated Pilot v3 at Prag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nstrated Pilot v4 at Herakl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 v5 ready at Tallin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98080" y="277920"/>
            <a:ext cx="7488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Realized Progress (I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092240"/>
            <a:ext cx="852156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otype web-based software application developed with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sting of e-catalog entries in the databa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ing of e-catalog entries title, link, author, language, et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record has a link to an e-resource on the Internet. Users can visit e-resources through this web p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y primitive questionnai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version of the questionnaire add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2 Pilot-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ORM L3 compliant e-cat user interface developed and linked with the e-surve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entry limited; no statistical analysis available; user types not clearly se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blems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development and management of the system a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tudents lef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because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mited software scop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0000" y="277920"/>
            <a:ext cx="7426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alized Progress (II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7920" y="1180800"/>
            <a:ext cx="87757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2 Pilot-4 + E-mail suppor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pletely new v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f e-cat and e-survey designed and developed (Oct.-Nov.,2007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supporting system has been developed (Sept.-Oct.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test si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bahar.web.tr/Surve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-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 users: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-resources in e-C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 users: can do all what Registered users can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the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questionnaires (e-evaluation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evaluate resources added by him-/her-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can modify the resources added by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ser can update their “own” e-resource and “e-evalua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2 e-Cat+e-Surv Site + E-mail supporting syste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vailable for real data and use by July 15, 200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Man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so re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5160" y="277920"/>
            <a:ext cx="77486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rategies for data collection and surve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 collection for e-c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110 Surveyor partners to provide 2 internal + 1 extra-Institutional, resources for the e-cat (through the EIE contact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is made easier through relaxation of mandatory fields in the SCORM based e-Cat metadata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line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version of the quality assessment is available and is coupled to basic statistics outp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IE contact person will be requested to direct a group of students (e.g. a class of 20-25) to evaluate e-resources in the e-Cat (each student to evaluate one local and one external sit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to their cour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ol for managing contact persons e-mailing has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ools will be useful for EAEEIE, SMEs and the next proposal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56:39Z</dcterms:created>
  <dc:creator>JLM</dc:creator>
  <dc:description/>
  <dc:language>en-US</dc:language>
  <cp:lastModifiedBy>marzo</cp:lastModifiedBy>
  <dcterms:modified xsi:type="dcterms:W3CDTF">2008-06-29T08:43:13Z</dcterms:modified>
  <cp:revision>236</cp:revision>
  <dc:subject/>
  <dc:title>T2</dc:title>
</cp:coreProperties>
</file>