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3F01-7E3E-4B03-96E0-C52C9AD7CF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nterestingly four of the bottom five are rated as the least important and the least well developed, a degree of alig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However at the more important top only Problem solving appears in both lis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Generally the two lists show poor overall, aggregated alig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ose with a large difference (all positive) show that the level of development is below the rated importance.  Note that the numerical range of the difference is, in theory, -4 to +4 with a difference of 1 being a full scale point – which is a large difference.  Finally of note is that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ll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ifferences are statistically significant (&lt;0.001, 2-taile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ose with a large difference (all positive) show that the level of development is below the rated importance.  Note that the numerical range of the difference is, in theory, -4 to +4 with a difference of 1 being a full scale point – which is a large difference.  Finally of note is that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ll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ifferences are statistically significant (&lt;0.001, 2-taile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ose with a large difference (all positive) show that the level of development is below the rated importance.  Note that the numerical range of the difference is, in theory, -4 to +4 with a difference of 1 being a full scale point – which is a large difference.  Finally of note is that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ll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ifferences are statistically significant (&lt;0.001, 2-taile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CC1-CD6A-42A5-85DD-A5A92459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920" y="3736800"/>
            <a:ext cx="8424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844-C187-4228-9B4E-4C36B7DE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920" y="37368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040" y="37368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C89-BFCB-4877-A2B0-0075526C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99600" y="11250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8280" y="11250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920" y="37368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99600" y="37368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8280" y="37368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81A-EEDD-4BE7-B722-CEEA62FE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CE44-9DC0-4028-BDA2-1A4C97B0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D751-6617-49E8-BF45-696D60F4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6B95-EA19-41A2-888E-E2A1F784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742E-FB52-4743-84BB-E5988ABA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79E7-11A2-4802-A63D-7D6CED23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00360" y="115920"/>
            <a:ext cx="61927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1358-871A-4625-B3A2-E7E001BD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920" y="37368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D297-78A6-47BE-BE7A-D7794F7F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6EB-76BF-4B23-A793-278EDFF2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040" y="37368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8ABE-6102-458E-A23A-373E98DA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920" y="3736800"/>
            <a:ext cx="8424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45B7-3FB8-4E99-BD13-E8AD88BC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0920" y="3736800"/>
            <a:ext cx="8424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5139-1C2F-43CC-ACD3-8B36B6F0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50920" y="37368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040" y="37368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A155-C38F-4C2D-B734-DF50C692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99600" y="11250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8280" y="11250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50920" y="37368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099600" y="37368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8280" y="3736800"/>
            <a:ext cx="2712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407E-A817-48D1-A263-246A00C4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D84-2922-477C-A682-184CE7D8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52D-F005-47F1-AE15-0EDBC869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F43-B2EB-43BF-B07A-64A00AB5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700360" y="115920"/>
            <a:ext cx="61927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A2C-BE25-4D94-B56A-03A4CD8F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920" y="37368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4F6-0275-4DE6-B262-9CC067AB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040" y="37368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01F-5944-479C-9E42-8A7094A9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040" y="1125000"/>
            <a:ext cx="4111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920" y="3736800"/>
            <a:ext cx="8424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10F-6232-4431-A61D-62EB8E6F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ct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2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2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250920" y="6381360"/>
            <a:ext cx="27367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C3EA-D77C-4B69-9420-0B417BC920D9}" type="datetime2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ednesday 29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4111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380360" y="6381360"/>
            <a:ext cx="15127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63AB-9FCE-4EB0-AC28-21BDE0D7A6E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2368440" cy="2872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1258920" y="404640"/>
            <a:ext cx="355680" cy="432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8001000" y="5410080"/>
            <a:ext cx="1143000" cy="9050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5"/>
          <a:stretch/>
        </p:blipFill>
        <p:spPr>
          <a:xfrm>
            <a:off x="7543800" y="0"/>
            <a:ext cx="1600200" cy="92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250920" y="6381360"/>
            <a:ext cx="273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8ADF-E616-44CE-87B1-5546E2943EB4}" type="datetime2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ednesday 29 July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41119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421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380000" y="6381360"/>
            <a:ext cx="14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4C5A-37A3-4705-BC2B-343490005F1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3311280" cy="40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0" t="0" r="1180" b="14102"/>
          <a:stretch/>
        </p:blipFill>
        <p:spPr>
          <a:xfrm>
            <a:off x="0" y="3538440"/>
            <a:ext cx="9144000" cy="2770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356000" y="620640"/>
            <a:ext cx="416160" cy="504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90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90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94920"/>
            <a:ext cx="864216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sk 1.1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ing Methodology applied to EIE across Eur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0920" y="242064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Tony Ward, Jozef Jasenek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University of York,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Director CETL Enterpri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Department of Electronic 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Generic Skills Analysis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71560" y="1620720"/>
          <a:ext cx="7891560" cy="3880080"/>
        </p:xfrm>
        <a:graphic>
          <a:graphicData uri="http://schemas.openxmlformats.org/drawingml/2006/table">
            <a:tbl>
              <a:tblPr/>
              <a:tblGrid>
                <a:gridCol w="4497480"/>
                <a:gridCol w="3394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ic Competence (Developmen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cross all students (n=164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. Patents and I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 Appreciation of ethical iss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 Appreciation of diversity &amp; multicultur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 Leadershi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. Understanding of cultures and customs of other count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Generic Skills Analysis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71560" y="1620720"/>
          <a:ext cx="7891560" cy="3976920"/>
        </p:xfrm>
        <a:graphic>
          <a:graphicData uri="http://schemas.openxmlformats.org/drawingml/2006/table">
            <a:tbl>
              <a:tblPr/>
              <a:tblGrid>
                <a:gridCol w="4497480"/>
                <a:gridCol w="3394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ic Competence (Differenc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cross all students (n=164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Knowledge of a second langu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apacity for generating new ideas (creativit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Ability to work in an international con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Leadershi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Capacity for applying knowledge in pract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Generic Skills Analysis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71560" y="1620720"/>
          <a:ext cx="7891560" cy="4005360"/>
        </p:xfrm>
        <a:graphic>
          <a:graphicData uri="http://schemas.openxmlformats.org/drawingml/2006/table">
            <a:tbl>
              <a:tblPr/>
              <a:tblGrid>
                <a:gridCol w="4497480"/>
                <a:gridCol w="3394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ic Competence (Differenc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cross all students (n=164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. Oral and written communications in native langu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 Research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 Basic general technical knowledge of the profession of your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 Grounding in basic knowledge of the profession of your work are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. Elementary comput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Specific Skills Analysi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95240" y="990720"/>
          <a:ext cx="7891560" cy="5321160"/>
        </p:xfrm>
        <a:graphic>
          <a:graphicData uri="http://schemas.openxmlformats.org/drawingml/2006/table">
            <a:tbl>
              <a:tblPr/>
              <a:tblGrid>
                <a:gridCol w="4995720"/>
                <a:gridCol w="2895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 Competence (Importanc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cross all students (n=158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Ability to apply appropriate quantitative methematical, science and engineering methods and computer software to solve engineering proble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Ability to work in a group on a major proj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Ability to demonstrate practical engineer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bility to demonstrate knowledge and understanding of scienfici facts, concepts, theories, principle &amp; methods necessary to underpin the engineering discip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Ability to apply a systems approa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Specific Skills Analysis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80880" y="990720"/>
          <a:ext cx="8305920" cy="5419440"/>
        </p:xfrm>
        <a:graphic>
          <a:graphicData uri="http://schemas.openxmlformats.org/drawingml/2006/table">
            <a:tbl>
              <a:tblPr/>
              <a:tblGrid>
                <a:gridCol w="5867640"/>
                <a:gridCol w="243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 Competence (Importanc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cross all students (n=158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knowledge and understanding of the commercial and economic con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 Ability to demonstrate awareness of the legal framework relevant to engineering activities, including personnel, health, safety, and risk (including environmental risk) iss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knowledge of management techniques which may be used to achieve engineering objectives within the commercial and economic con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awareness of the nature of intellectual property and contractual iss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an appreciation of the wider multidisciplinary engineering context and its underlying princip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Specific Skills Analysis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90720"/>
          <a:ext cx="8305920" cy="5724360"/>
        </p:xfrm>
        <a:graphic>
          <a:graphicData uri="http://schemas.openxmlformats.org/drawingml/2006/table">
            <a:tbl>
              <a:tblPr/>
              <a:tblGrid>
                <a:gridCol w="5867640"/>
                <a:gridCol w="243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 Competence (Developmen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cross all students (n=158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knowledge and understanding of mathematics principles and methods necessary to underpin the engineering discip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Ability to apply appropriate quantitative mathematical, science and engineering methods and computer software to solve engineering proble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knowledge and understanding of scientific facts, concepts, theories, principles and methods necessary to underpin the engineering discip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identify, classify and describe the performance of systems and components through the use of analytical methods and modelling techn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apply a systems approach to engineering proble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62000" y="4235400"/>
            <a:ext cx="30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Specific Skills Analysis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0880" y="1133640"/>
          <a:ext cx="8305920" cy="5114880"/>
        </p:xfrm>
        <a:graphic>
          <a:graphicData uri="http://schemas.openxmlformats.org/drawingml/2006/table">
            <a:tbl>
              <a:tblPr/>
              <a:tblGrid>
                <a:gridCol w="5867640"/>
                <a:gridCol w="243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c Competence (Developmen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cross all students (n=158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understand and take into account social, environmental, ethical, economic and commercial considerations affecting the exercise of engineering jud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knowledge and understanding of the commercial and economic con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awareness of the nature of intellectual property and contractual iss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knowledge of management techniques which may be used to achieve engineering objectives within the commercial and economic conte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ility to demonstrate awareness of the legal framework 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52280" y="4191120"/>
            <a:ext cx="30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Factor Analysis (Generic)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d Varimax Facto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factors (48.4% total vari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d Importance similar but not identical to  Level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Competence” (6 items, 16.1% varianc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8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bility to work autonomousl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Will to succe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Concern for qual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Problem solv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Project design and manag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Capacity for generating new ideas (creativity)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actor Analysis (Generic)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ersonal Competence” (3 items, 11.3% variance,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rpersonal skil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Teamwork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ral and written communications in your native langu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iversity Awareness” (3 items, 10.7% varianc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7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Understanding of cultural and customs of other countr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ppreciation of ethical issu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ppreciation of diversity and multiculturality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Professional Competence” (4 items,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7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Grounding in basic knowledge of the profession of your work are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Basic general technical knowledge of the profession of your work are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Capacity for analysis and synthesi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Capacity for applying knowledge in practic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 Wha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2472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Input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what they think a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ment of perception of importance of competences compared to their perception of level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 &amp; Employment Institut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Abstracted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hinks which competences a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demand 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level (National &amp; European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Analysed im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of important compe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Demand 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0360" y="11736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247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(reported here) - Demographi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ic Competence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 Competence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are we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are we n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line questionnaires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er based being e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s to be collated (not a large jo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analysis (SP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 summa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technical report (full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Project Outc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14264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A full data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Report on survey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On-line report (on web s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Academic 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Dissemination (Need contacts &amp; address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, SEFI, FEANI, CEDEFOP(?), Tuning Projec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: EAEEIE, SEFI, ITHE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: IEEE Educational Portal, B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 Subject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 (Engineering Professors Counc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 (Engineering Counc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E (Royal Academy of Engine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S (British Computer Socie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earch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Questionnaires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Collection (On-line, Paper, Email)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Entry &amp; Validati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-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Analysis (SPSS)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- Pilot analysis under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ing &amp; 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sample reported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sample n = 1,783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 Paper based: (approx 1,100 1,3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ies n =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vak Re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30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2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ng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21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65.5%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2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3% Male, 16.7% Female, 36 ref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% Undergraduates, 26.8% Postgradu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.2% &lt;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3429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6.6%  21 &lt; n &lt;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1295280"/>
            <a:ext cx="685800" cy="0"/>
          </a:xfrm>
          <a:prstGeom prst="line">
            <a:avLst/>
          </a:prstGeom>
          <a:ln w="1260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naire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Competenc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Competenc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ived importance &amp; perceived level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 point Likert sc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ic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SimSun"/>
              </a:rPr>
              <a:t>Do you feel that the degree is preparing you adequately for employment?” Approx equal Bachelor &amp; Ma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Very mu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10.1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Mu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42.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} 87.4% positiv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35.4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emale mean: 2.58, Male mean 2.52  (1..5) - Not goo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How would you rate the employment potential of your degree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emale mean: 2.25, Male mean: 2.16 (Between Some &amp; Litt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569"/>
              </a:buClr>
              <a:buSzPct val="65000"/>
              <a:buFont typeface="Wingdings" charset="2"/>
              <a:buChar char=""/>
              <a:tabLst>
                <a:tab algn="l" pos="26668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urther analysis needed to tr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Generic Skills Analysi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1143000"/>
          <a:ext cx="8424720" cy="497844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914400" y="1600200"/>
          <a:ext cx="7315200" cy="3591000"/>
        </p:xfrm>
        <a:graphic>
          <a:graphicData uri="http://schemas.openxmlformats.org/drawingml/2006/table">
            <a:tbl>
              <a:tblPr/>
              <a:tblGrid>
                <a:gridCol w="4800600"/>
                <a:gridCol w="2514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eneric competence (Importanc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ean across all students (n=164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. Problem solv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 Elementary comput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 Capacity for applying knowledge in pract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. Teamwork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. Knowledge of a second langu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1491840" y="5410080"/>
            <a:ext cx="35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= Considerable, 4 = Str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Generic Skills Analysis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1143000"/>
          <a:ext cx="8424720" cy="497844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914400" y="1600200"/>
          <a:ext cx="7315200" cy="700200"/>
        </p:xfrm>
        <a:graphic>
          <a:graphicData uri="http://schemas.openxmlformats.org/drawingml/2006/table">
            <a:tbl>
              <a:tblPr/>
              <a:tblGrid>
                <a:gridCol w="4800600"/>
                <a:gridCol w="2514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eneric competence (Importanc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ean across all students (n=164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914400" y="2330280"/>
          <a:ext cx="7848720" cy="3841920"/>
        </p:xfrm>
        <a:graphic>
          <a:graphicData uri="http://schemas.openxmlformats.org/drawingml/2006/table">
            <a:tbl>
              <a:tblPr/>
              <a:tblGrid>
                <a:gridCol w="4243320"/>
                <a:gridCol w="360540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8. Research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9. Patents and Intellectual Property Righ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0. Appreciation of ethical iss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1. Appreciation of diversity and multicultur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2. Understanding of cultures and customs of other count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0360" y="11592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Generic Skills Analysis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71560" y="1620720"/>
          <a:ext cx="7891560" cy="3942000"/>
        </p:xfrm>
        <a:graphic>
          <a:graphicData uri="http://schemas.openxmlformats.org/drawingml/2006/table">
            <a:tbl>
              <a:tblPr/>
              <a:tblGrid>
                <a:gridCol w="4496760"/>
                <a:gridCol w="339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ic Competence (Developmen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cross all students (n=164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Elementary comput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Ability to work autonomous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Problem solv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Basic general technical knowledge of the profession of your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Capacity to lear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5:06:20Z</dcterms:created>
  <dc:creator>Paul Kelly</dc:creator>
  <dc:description/>
  <dc:language>en-US</dc:language>
  <cp:lastModifiedBy>Tony Ward</cp:lastModifiedBy>
  <dcterms:modified xsi:type="dcterms:W3CDTF">2008-06-29T12:43:28Z</dcterms:modified>
  <cp:revision>7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36862242</vt:r8>
  </property>
  <property fmtid="{D5CDD505-2E9C-101B-9397-08002B2CF9AE}" pid="3" name="_AuthorEmail">
    <vt:lpwstr>pkt3@york.ac.uk</vt:lpwstr>
  </property>
  <property fmtid="{D5CDD505-2E9C-101B-9397-08002B2CF9AE}" pid="4" name="_AuthorEmailDisplayName">
    <vt:lpwstr>Penn Snowden</vt:lpwstr>
  </property>
  <property fmtid="{D5CDD505-2E9C-101B-9397-08002B2CF9AE}" pid="5" name="_EmailSubject">
    <vt:lpwstr/>
  </property>
</Properties>
</file>