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5981-55C0-4C56-8D59-6AC3624F2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7F47-2D67-473E-A33E-4545C0509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3D6E-DFBC-4658-824E-6B7DAE0F7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4608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60720" y="156636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144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4608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60720" y="3930840"/>
            <a:ext cx="2870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6778-C0CD-4888-9225-0D3333E9D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0D3C-D6A6-4F9D-A835-87C027E18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2FFB-7A9A-4ED2-9406-2C3A4501A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E462-5685-486E-836E-947889127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FB6D-2628-4AE6-90CC-30C14A4BA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11240" y="274680"/>
            <a:ext cx="7493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9C6C-F7BF-4564-83EB-1EB911FDC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DF71-CAF7-45A4-B521-E4EB58521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9840" y="393084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5FF9-C67F-4295-B6B0-42584F1BB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9840" y="1566360"/>
            <a:ext cx="4350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440" y="3930840"/>
            <a:ext cx="8915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8F03-9006-41E9-B722-954C8FC00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165240" cy="5638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3480" y="6378480"/>
            <a:ext cx="70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rd General Meeting, Tallinn (Estonia), 29th Jun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616880" y="6356520"/>
            <a:ext cx="12240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7267-FD5F-4B32-ABD7-9E0E79D8DDF8}" type="slidenum">
              <a:rPr b="1" lang="fr-F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404280" y="643212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64AB-E71D-4A93-9347-80927143B0DF}" type="slidenum">
              <a:rPr b="1" lang="fr-FR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54160" y="274680"/>
          <a:ext cx="165708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274680"/>
                    <a:ext cx="1657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219240" y="6256440"/>
          <a:ext cx="83808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256440"/>
                    <a:ext cx="838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1103400" y="6273720"/>
          <a:ext cx="68112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03400" y="6273720"/>
                    <a:ext cx="6811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" name=""/>
          <p:cNvGraphicFramePr/>
          <p:nvPr/>
        </p:nvGraphicFramePr>
        <p:xfrm>
          <a:off x="2505240" y="2060640"/>
          <a:ext cx="4437000" cy="400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5240" y="2060640"/>
                    <a:ext cx="4437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415800" y="1413000"/>
            <a:ext cx="9396360" cy="46195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728800"/>
            <a:ext cx="84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rd General Meeting Meeting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Marc THIRIE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iversité Joseph Fourier Gre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85720" y="448416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llinn (Eesti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9th Jun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 you, Gert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53240" y="115920"/>
            <a:ext cx="27352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September 2008, final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0 partners – 8 =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+ 0 company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3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NL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T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formation from partners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5th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mpact of the TN, unexpected out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Bibliographical references of members (Dissemination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Dissemination actions of partn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management of the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nancial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gran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ctual budget (June 20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32000" y="1052640"/>
          <a:ext cx="8292960" cy="524664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00051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22833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0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14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261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8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031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66897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47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5254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4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32203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4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00160" y="198360"/>
            <a:ext cx="771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management of the money </a:t>
            </a:r>
            <a:br>
              <a:rPr sz="2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xpected budget (end of the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32000" y="1052640"/>
          <a:ext cx="8292960" cy="5383080"/>
        </p:xfrm>
        <a:graphic>
          <a:graphicData uri="http://schemas.openxmlformats.org/drawingml/2006/table">
            <a:tbl>
              <a:tblPr/>
              <a:tblGrid>
                <a:gridCol w="2732040"/>
                <a:gridCol w="1913040"/>
                <a:gridCol w="1574640"/>
                <a:gridCol w="207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esent budget (€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ercentage of approved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aff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67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a. Travel and subsist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8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b Equipment and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c Sub-contracting, consultancy and other exter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1,6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d 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8,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direct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6 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5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4,3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General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 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7 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88,1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50 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rant 400 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 102 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88,1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Grant 353 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ravel and subsistence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ation of subsistence costs: 1 per diem / night + ½ per diem for travel (NOT 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bsistence costs eligible for external experts coming from outside Socrates countries (but not Travel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vel and subsistence costs for students participating to the plenary meeting are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eclaration of costs (travel, accomodation) as co-financing of your institution for « travel and subsistence 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Other travel and subsistence (for instance days for your participation to the EAEEIE con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Staff costs – 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staff costs related to all persons involved in the project by institution can be charged into the project, according to the time effectively spent =&gt; </a:t>
            </a:r>
            <a:r>
              <a:rPr b="1" lang="fr-FR" sz="2400" spc="-1" strike="noStrike">
                <a:solidFill>
                  <a:srgbClr val="3366cc"/>
                </a:solidFill>
                <a:latin typeface="Arial"/>
              </a:rPr>
              <a:t>BE REALISTIC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osts should be calculated on the hourly, daily, monthly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gros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st (salaire brut) multiplied by the number of hours, days or months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beneficiary and partners must keep full and accur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onnel costs should not exceed the norm for the labour market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eer costs (bénévoles) not eligible – real co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quipment and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tal value &lt; € 1 000, the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full purchase valu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eligible, adjusted to the percentage use in the project;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rchase price &gt; € 1 000, hardware and equipment are considered as having a life expectancy of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hree year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ple: the allowable cost in year one for a piece of equipment worth € 10 000, which is used 50 % for the project, amounts to € 1 66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0 000 x 33.33% x 50% = € 1 666.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costs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231920"/>
            <a:ext cx="8915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 charg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ing or maintaining of an account established especially for the project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nk transfer and exchange costs relating to receipts and payments for eligible expenditure under the projec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&gt; contacter le service financier pour récupérer les coûts bancaires des transf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incurred in producing, translating and publishing documents, performed by one of the member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communication costs in duly justified cases for projects where activities require very intensive use of this type of 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ring of conference halls or training premis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s required: 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eclaration of costs (registration) as co-financing of your institution for « other costs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x: registration for the EAEEIE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AEEIE membership 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Renting of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66cc"/>
                </a:solidFill>
                <a:latin typeface="Arial"/>
              </a:rPr>
              <a:t>TAKE CARE !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Only in the eligible zone (EU27 + NO + IS + FL + 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dd jus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Keep records of all your documents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(The European Commission can request documents from you 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ologies for abs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 Barsics (BE, Liè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. Lhotska (CZ, Pra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 Perra (IT, Caglia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J. Martins (PT, Lisb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 Robert (FR, Na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 Diprose (Spectrum Ltd, 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nera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1595160"/>
            <a:ext cx="8915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mmunication costs (postage, fax, telephone, mailing, etc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frastructure costs (rent, electricity, etc.) of the premises where the project is being carried out, in proportion to the use of these premises by the projec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office suppl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hotocop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he beneficiary will not be required to produce supporting documents for general costs</a:t>
            </a:r>
            <a:r>
              <a:rPr b="0" lang="bg-BG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Transfer of money to the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Transfer of money to the part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2160" y="1401840"/>
          <a:ext cx="5943600" cy="49006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for Nancy, 2 for Gren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ing team, monitoring group, tasks 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points per</a:t>
                      </a: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sation of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points per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tion to a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point per 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red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 point per line in the t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1.1 T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Questionnaire – 4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 and Correct the Questionnaire – 1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ribution to meeting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of meeting and engagement of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d on number of questionnaires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of number of responses of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ist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1.3 Accre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oordination task 1.3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Participation task 1.3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2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o did what during the life time of the projec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ORM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dified SCORM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stionnaire 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ILOTS 1-4 and Real Server --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act Management --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all who have joined the meetings for task 2 and con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those who have done the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tribution of points to partner coordinators who will put real data into the e-C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3.1 Observ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Management of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Authors of general papers – 2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tional contact (update of the data for a country) – 0,2 point pe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daction and publication of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TASK 3.3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t the beginning of the task and, main questions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of the task and main question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ign of the complet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1 - Student Questionnair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2 - Surveyor questionnaire and mobility 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the questionnaires 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ing of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for the end of the task and main questions to ask in the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raction of result from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rt on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alising Report on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sign of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periment of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port on the web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31800" y="1566720"/>
          <a:ext cx="8915400" cy="4586400"/>
        </p:xfrm>
        <a:graphic>
          <a:graphicData uri="http://schemas.openxmlformats.org/drawingml/2006/table">
            <a:tbl>
              <a:tblPr/>
              <a:tblGrid>
                <a:gridCol w="1498680"/>
                <a:gridCol w="1577880"/>
                <a:gridCol w="1420920"/>
                <a:gridCol w="1420920"/>
                <a:gridCol w="1419120"/>
                <a:gridCol w="1577880"/>
              </a:tblGrid>
              <a:tr h="20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lared 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ximum grant (30 % of the budg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ossible grant (number of points * value of 1 po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Effective gr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of the grant used (reimbursement of previous trav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Part of the grant to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22*0,3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96,6 -0= 9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71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471,24*0,3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41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7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7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5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7830-2125,24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5704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al management of the money </a:t>
            </a:r>
            <a:r>
              <a:rPr b="0" i="1" lang="fr-FR" sz="3600" spc="-1" strike="noStrike">
                <a:solidFill>
                  <a:srgbClr val="000000"/>
                </a:solidFill>
                <a:latin typeface="Arial"/>
              </a:rPr>
              <a:t>Administrative contact in 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 Lemarq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, rue Jean Lam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4 519 Vandoeuvre les Nancy ce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x: +33 3 83 68.50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Lise.Lemarquis@esstin.uhp-nancy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nday 29th Ju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9.00 EIE-Surveyor plenary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ral information – Final report (JM Thiri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ncial aspects (JM Thiri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tcomes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Data from the questionnaires (J. Ligus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1 Tuning (A. Ward &amp; J. Jasenek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1.3 Accreditation (D. Pasquet, C. Burkley &amp; F. Maciel-Barbo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2 Quality (D. Deniz, JL Marzo-Lazaro &amp; D. Genon-Catalot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3 Bologna Observatory (JM Thiriet &amp; G. Jervan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TASK 3.3 Portal (H. Yahoui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Feedback from the monitoring group with external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vancement state of the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 Points » and list of partners involved in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ebsite (pages outco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totype of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semination action for the outcome (list of addresses for the disse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urope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2680" y="-27000"/>
            <a:ext cx="86997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1341000"/>
            <a:ext cx="8778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1.1 Competences, TUNING (A. Ward, J. Jasene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compe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1.3. Methodology for accredi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D. Pasquet, F. Maciel-Barbosa, C. Burkley, M. Hoffma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2. Internet as educational resource for EIE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.L. Marzo-Lazaro, D. Deniz, D. Genon-Catalo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3. Survey, BMD-process in Europe (M.J. Martins, G. Jerv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3.1. Bologna process in EIE at the bachelor, master and PhD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3.3 Portal on mobility, EIE curricula</a:t>
            </a:r>
            <a:r>
              <a:rPr b="0" lang="fr-FR" sz="2400" spc="-1" strike="noStrike">
                <a:solidFill>
                  <a:srgbClr val="b8022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H. Yaho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0160" y="14241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802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80220"/>
                </a:solidFill>
                <a:latin typeface="Arial"/>
              </a:rPr>
              <a:t>TRANSVERSAL TASK: Portal for the various tasks (J. Li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monitoring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ponsible: Hélène Frémon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ion: Juan Carlos Burguillo, Karl Guðmund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ternal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cques Cit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ves D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AL DISSEMINATION POLICY (J. Bar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44280"/>
            <a:ext cx="8917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aximum per d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84280" y="549360"/>
          <a:ext cx="8292960" cy="6207120"/>
        </p:xfrm>
        <a:graphic>
          <a:graphicData uri="http://schemas.openxmlformats.org/drawingml/2006/table">
            <a:tbl>
              <a:tblPr/>
              <a:tblGrid>
                <a:gridCol w="2435040"/>
                <a:gridCol w="1711440"/>
                <a:gridCol w="2073600"/>
                <a:gridCol w="207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in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Ic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K Den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Liechten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 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 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 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 Czech R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 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 Ir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 Cyp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V Lat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 Luxembo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 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L 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 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 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 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 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 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 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 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256360" y="2570040"/>
            <a:ext cx="2447640" cy="7304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w LLP themat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LEI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Lifelong Learning for the Electrical and Information Engineer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ed Yahoui (Université Claude Bernard Lyon 1 coord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October 2005, begi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1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January 2007, progress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 –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1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January 2007, progress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1 partners – 7 + 6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2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</a:t>
            </a:r>
            <a:r>
              <a:rPr b="1" lang="fr-FR" sz="1600" spc="-1" strike="noStrike">
                <a:solidFill>
                  <a:srgbClr val="00cc99"/>
                </a:solidFill>
                <a:latin typeface="Arial"/>
              </a:rPr>
              <a:t>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1240" y="274680"/>
            <a:ext cx="7493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alance of the consortium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between progress and final repo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144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110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 European socie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Z 3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5 + 1 compan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 23 + 1 society + 1 chapter IE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U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566360"/>
            <a:ext cx="43815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 5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T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K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K 2 + 1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associated (UA and L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3:46:50Z</dcterms:created>
  <dc:creator>INPG</dc:creator>
  <dc:description/>
  <dc:language>en-US</dc:language>
  <cp:lastModifiedBy>perso</cp:lastModifiedBy>
  <cp:lastPrinted>2001-02-27T14:19:08Z</cp:lastPrinted>
  <dcterms:modified xsi:type="dcterms:W3CDTF">2008-08-22T22:21:24Z</dcterms:modified>
  <cp:revision>650</cp:revision>
  <dc:subject/>
  <dc:title>Aucun titre de diapositive</dc:title>
</cp:coreProperties>
</file>