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E2DDE-EC90-4050-903D-6D61B465F4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DB99A-82AC-4589-A029-D10D68BD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2E83-F35F-4EAF-9250-7A17E29E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125F-5D92-4B05-B5EF-C0174B43C4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8AA9B-793C-4D62-8008-A761672F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E8DB-82F5-4001-85FA-17A7D2F7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14A0B-9CF3-4133-A419-3F5416D9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642C0-B4FE-4581-9BE6-37F0AC2D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60092-B1D3-4720-A523-04E5F7FD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04DB-3359-4A06-A67D-F9A1F7A7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946A-1759-4471-9F8B-4239399B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405A7-C84B-4521-B68D-6F010DA4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8764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663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3316-0FDE-4A18-B7DA-996A7C9921ED}" type="slidenum">
              <a:rPr b="1" lang="en-GB" sz="1200" spc="-1" strike="noStrike">
                <a:solidFill>
                  <a:srgbClr val="006633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3244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599240" y="189000"/>
          <a:ext cx="1544760" cy="13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9240" y="189000"/>
                    <a:ext cx="154476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457200" y="6262560"/>
            <a:ext cx="792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02b00"/>
                </a:solidFill>
                <a:latin typeface="Arial"/>
                <a:ea typeface="Arial"/>
              </a:rPr>
              <a:t>Monitoring Group Work        </a:t>
            </a:r>
            <a:r>
              <a:rPr b="0" i="1" lang="en-US" sz="2000" spc="-1" strike="noStrike">
                <a:solidFill>
                  <a:srgbClr val="002290"/>
                </a:solidFill>
                <a:latin typeface="Arial"/>
              </a:rPr>
              <a:t>Tallinn Jun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30040"/>
            <a:ext cx="7925040" cy="6080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120" y="2971440"/>
            <a:ext cx="6696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290"/>
                </a:solidFill>
                <a:latin typeface="Arial"/>
              </a:rPr>
              <a:t>Monitoring and Evaluation issues</a:t>
            </a:r>
            <a:r>
              <a:rPr b="0" lang="en-US" sz="2800" spc="-1" strike="noStrike">
                <a:solidFill>
                  <a:srgbClr val="00229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290"/>
                </a:solidFill>
                <a:latin typeface="Arial"/>
              </a:rPr>
              <a:t>Tallinn 29</a:t>
            </a:r>
            <a:r>
              <a:rPr b="0" lang="en-US" sz="2800" spc="-1" strike="noStrike" baseline="30000">
                <a:solidFill>
                  <a:srgbClr val="00229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2290"/>
                </a:solidFill>
                <a:latin typeface="Arial"/>
              </a:rPr>
              <a:t> Jun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33336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2b00"/>
                </a:solidFill>
                <a:latin typeface="Verdana"/>
              </a:rPr>
              <a:t>EIE-Survey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00720" y="404640"/>
          <a:ext cx="2336760" cy="21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404640"/>
                    <a:ext cx="23367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979640" y="4221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0080" y="5181480"/>
            <a:ext cx="6147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290"/>
                </a:solidFill>
                <a:latin typeface="Arial"/>
              </a:rPr>
              <a:t>Hélène FREMONT, </a:t>
            </a:r>
            <a:r>
              <a:rPr b="1" i="1" lang="en-GB" sz="2000" spc="-1" strike="noStrike">
                <a:solidFill>
                  <a:srgbClr val="002290"/>
                </a:solidFill>
                <a:latin typeface="Arial"/>
              </a:rPr>
              <a:t>Bordeaux1 University (F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290"/>
                </a:solidFill>
                <a:latin typeface="Arial"/>
              </a:rPr>
              <a:t>Karl Gudmundsson, </a:t>
            </a:r>
            <a:r>
              <a:rPr b="1" i="1" lang="en-GB" sz="2000" spc="-1" strike="noStrike">
                <a:solidFill>
                  <a:srgbClr val="002290"/>
                </a:solidFill>
                <a:latin typeface="Arial"/>
              </a:rPr>
              <a:t>University of Iceland (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e02b00"/>
                </a:solidFill>
                <a:latin typeface="Arial"/>
                <a:ea typeface="Arial"/>
              </a:rPr>
              <a:t>Recommendations from the M</a:t>
            </a:r>
            <a:r>
              <a:rPr b="1" lang="en-US" sz="3000" spc="-1" strike="noStrike">
                <a:solidFill>
                  <a:srgbClr val="e02b00"/>
                </a:solidFill>
                <a:latin typeface="Arial"/>
                <a:ea typeface="Arial"/>
              </a:rPr>
              <a:t>onitoring Group</a:t>
            </a: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2290"/>
                </a:solidFill>
                <a:latin typeface="Arial"/>
              </a:rPr>
              <a:t>(Grenoble March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600200"/>
            <a:ext cx="86868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agmatic Strategy for the next last month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nd specific e-mails to partners in order to get answ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ask’s managers must be even more act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lve the safety problems of the questionnaire web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pdate the websit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monitoring group/dissemination tas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erything seems to have correctly evol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33cc"/>
                </a:solidFill>
                <a:latin typeface="Arial"/>
              </a:rPr>
              <a:t>Monitors and managers should organise the external monito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46483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3307-840A-46FE-B1C1-B76F1CB0E5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6640" y="304920"/>
            <a:ext cx="6964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External monitoring organis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2640" y="990720"/>
            <a:ext cx="34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i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63188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aluation of the organisation / life of the whol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 evolu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aluation task by task : initial purposes / final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048120"/>
            <a:ext cx="89154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wo emeritus professors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acques CITERNE : Prof. at Rennes University  (Electronics and telecommunic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n-GB" sz="2400" spc="-1" strike="noStrike">
                <a:solidFill>
                  <a:srgbClr val="0033cc"/>
                </a:solidFill>
                <a:latin typeface="Tahoma"/>
              </a:rPr>
              <a:t>Outcomes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ves DANTO : Prof. at Bordeaux University (Reliability of microelectronics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n-GB" sz="2400" spc="-1" strike="noStrike">
                <a:solidFill>
                  <a:srgbClr val="0033cc"/>
                </a:solidFill>
                <a:latin typeface="Tahoma"/>
              </a:rPr>
              <a:t>Project’s organisation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50864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55627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3FEF0-02FC-4A4A-8CE1-F0AD31E1DC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457200"/>
            <a:ext cx="5929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02b00"/>
                </a:solidFill>
                <a:latin typeface="Arial"/>
                <a:ea typeface="Arial"/>
              </a:rPr>
              <a:t>Monitoring Group Work</a:t>
            </a:r>
            <a:br>
              <a:rPr sz="3400"/>
            </a:br>
            <a:r>
              <a:rPr b="0" i="1" lang="en-US" sz="2000" spc="-1" strike="noStrike">
                <a:solidFill>
                  <a:srgbClr val="002290"/>
                </a:solidFill>
                <a:latin typeface="Arial"/>
              </a:rPr>
              <a:t>Tallinn, Jun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6560" y="1600200"/>
            <a:ext cx="734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9900"/>
              </a:buClr>
              <a:buSzPct val="1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cilities were very go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943360" y="3124080"/>
            <a:ext cx="3000240" cy="2025720"/>
            <a:chOff x="2943360" y="3124080"/>
            <a:chExt cx="3000240" cy="20257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rcRect l="0" t="0" r="0" b="33387"/>
            <a:stretch/>
          </p:blipFill>
          <p:spPr>
            <a:xfrm>
              <a:off x="3429000" y="3352680"/>
              <a:ext cx="212400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2943360" y="3124080"/>
              <a:ext cx="3000240" cy="466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ccff"/>
                    </a:solidFill>
                    <a:miter/>
                  </a:ln>
                  <a:solidFill>
                    <a:srgbClr val="0033cc"/>
                  </a:solidFill>
                  <a:latin typeface="Arial"/>
                </a:rPr>
                <a:t>Thank You, Gert</a:t>
              </a:r>
              <a:endParaRPr b="0" lang="en-US" sz="32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33cc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DCCA1-8ABE-4D21-823A-3E15106CD6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1:21:09Z</dcterms:created>
  <dc:creator>Victor de Kosinsky</dc:creator>
  <dc:description/>
  <dc:language>en-US</dc:language>
  <cp:lastModifiedBy>Frémont</cp:lastModifiedBy>
  <dcterms:modified xsi:type="dcterms:W3CDTF">2008-06-29T13:11:46Z</dcterms:modified>
  <cp:revision>142</cp:revision>
  <dc:subject>Evaluation Dec 2006</dc:subject>
  <dc:title>EIE-Surveyor</dc:title>
</cp:coreProperties>
</file>