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B7002-8318-41D0-B52B-188BB014C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8AA-432A-4AF6-A8D7-A26E4E7D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DFD-370B-4368-9BC6-BE42983C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1EA-C44A-41FB-9B35-8C6B9372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671-3083-493A-80F9-0D3AA852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D2C-03E0-459E-995D-A88FCF04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553-57A9-4784-A938-3A0B960B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E68-F4A2-4805-BF17-4204560B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FEC-FFFB-4412-B6FC-79BCB7A6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991-A05C-485C-A681-888FABF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1E0-65F7-4C12-A7B2-446E152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A53-8EC9-4BB2-8CBF-419D64B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1DE-B285-4578-BD45-2E83E99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llinn, Ee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 Jun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0D4C-C609-4A53-9829-6BF8851C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740720" y="0"/>
          <a:ext cx="1403280" cy="111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0"/>
                    <a:ext cx="14032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274680"/>
          <a:ext cx="2050920" cy="11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4680"/>
                    <a:ext cx="20509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ory of the Bologn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f the Mon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sourcing the formatting and publishing process ( Karl Guðmund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ke away the 1st part and replace it with articles from partners concerning the BM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data analysis ( M. Joao &amp; Pe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sert the overview (Olivier &amp; Micha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26920" y="1284120"/>
          <a:ext cx="7705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84120"/>
                    <a:ext cx="7705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9640" y="1749600"/>
          <a:ext cx="7362720" cy="40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749600"/>
                    <a:ext cx="7362720" cy="40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st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M: SEFI, Victor de Kos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OIivier,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ummary of the situation of B&amp;M and PhDs  - Pepe and M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study programmes and courses offered in English (specific univers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double dipl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4360" y="40464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6970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: K. 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V : R. Catth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-W : J. Bar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BG : D. Dimi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Y : D. De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Z : M. Ch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: M. Hoffmann &amp; H. R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K: can ask Anna Fri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E: G. Jer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6970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: J. Benlloch and A. Sua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: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 : J.M.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GR: G. Tsirigotis and G. Papadoura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: C. C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IE: C. Burk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IS: K. Guðmund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T: C. P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LT: R. Krivic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14360" y="41904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17114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U : JM Thi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V: I. Slaid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MT: A. L. Ga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L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NO: S. Mylvag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PL: W. G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PT: F. Maciel-Barbosa and MJ Marti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711440"/>
            <a:ext cx="439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RO: D. Pop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: Univ; of Goteb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: Univ. Of Ljublj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SK: J. Jas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TR: B. Karaog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99"/>
                </a:solidFill>
                <a:latin typeface="Arial"/>
              </a:rPr>
              <a:t>UA: A. Zynovch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K: T. Ward and  M. Dip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Copies per partner (CD-version) (1 for partner, 1 for Department, 1 for international office, 1 for National Socrates Agency, 1 for professional Engineering 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on the website (downloa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ies to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IEEE educationa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py to SE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 mail to partners to disseminate the information on their websites to student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pers on IEEE education and EJ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 to other TNs and ASEE, and IEEE Gold, SPIE, URSI, 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ew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Karl Solvi Guðmundsson - Univ. of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; of Goteborg,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v. Of Ljubljana,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so</cp:lastModifiedBy>
  <dcterms:modified xsi:type="dcterms:W3CDTF">2008-06-29T03:23:41Z</dcterms:modified>
  <cp:revision>12</cp:revision>
  <dc:subject/>
  <dc:title>Task 3.3</dc:title>
</cp:coreProperties>
</file>