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3A9-2FAD-4E37-BEF0-62D5E473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FA7-B9F1-487E-AAD0-15D5B896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C21-D0FC-4087-B347-4055E993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D854-6462-4782-9993-84074EC1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CAE-242F-4AFA-A0A9-78A73173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9C3-D0C8-459A-BD50-CEB6372D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464-59ED-4BC6-8A24-9EBEF16A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F62-3763-476D-96CF-CA3AE5D4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A7E9-9A74-4E5D-9FFA-25D12C64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9609-97E0-4342-85F1-87797CBD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158F-0A55-4BC4-8089-060EABD2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C6F-1207-4317-8CDC-EF986930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aklion, Crete- Dec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sk 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230A-061B-4F1F-848E-16DB3095E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740720" y="0"/>
          <a:ext cx="1403280" cy="111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0720" y="0"/>
                    <a:ext cx="14032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0" y="274680"/>
          <a:ext cx="2050920" cy="117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74680"/>
                    <a:ext cx="20509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ask 3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pdate of Mono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pdate of Doctor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asks 3 (Monograph,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ologna Proce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nal outcomes, « Monograph on EIE in Europe» and « Monograph on PhD studies in EIE in Europ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hape : report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CD, Book, PDF on the web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nline vers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dynamic content with possibilities to updat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rategy, Targets of this final outcome: Ministries for Higher Education, universities in Europe, universities outside Europe, ??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te of availability of the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printed vers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ugus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lementation of the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rect exchange of data (no use of website questionna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nline version, based on received information with possibility to update “on-f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ask 3 (200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1050840"/>
            <a:ext cx="8135640" cy="5052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92040" y="457992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ff9900"/>
                </a:solidFill>
                <a:latin typeface="Arial"/>
              </a:rPr>
              <a:t>Olivi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ff9900"/>
                </a:solidFill>
                <a:latin typeface="Arial"/>
              </a:rPr>
              <a:t>Micha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640" y="2421000"/>
            <a:ext cx="1110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ff9900"/>
                </a:solidFill>
                <a:latin typeface="Arial"/>
              </a:rPr>
              <a:t>Victo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ff9900"/>
                </a:solidFill>
                <a:latin typeface="Arial"/>
              </a:rPr>
              <a:t>TBD (SEF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12000" y="1700280"/>
            <a:ext cx="289080" cy="3097080"/>
          </a:xfrm>
          <a:custGeom>
            <a:avLst/>
            <a:gdLst>
              <a:gd name="textAreaLeft" fmla="*/ 0 w 289080"/>
              <a:gd name="textAreaRight" fmla="*/ 104400 w 289080"/>
              <a:gd name="textAreaTop" fmla="*/ 80640 h 3097080"/>
              <a:gd name="textAreaBottom" fmla="*/ 3016440 h 30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97640" y="2800440"/>
            <a:ext cx="70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2276640"/>
            <a:ext cx="719280" cy="243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8000" y="4581360"/>
            <a:ext cx="719280" cy="243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8280" y="3068640"/>
            <a:ext cx="280656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(Pepe and TG3 coordinato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21120" y="4618080"/>
            <a:ext cx="255960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(Maria Joao and TG3 coordina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6680" y="2924280"/>
            <a:ext cx="145800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(Ge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Task 3 – New Develop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2 new intro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B&amp;M: SEFI, Victor de Kosin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: OIivier, Mich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General summary of the situation of B&amp;M and PhDs  - Pepe and M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Dissemination over the web (Gert), preparation of the versions for the commission (CD, book) – all task coordi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dd national contact points for each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Information about study programmes and courses offered in English (specific univers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nce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of double diplo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imestamping of th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ational contacts for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ologna-process (T3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T: K. 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E-V : R. Catth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E-W : J. Bar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G : D. Dimit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Y : D. Den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Z :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L. Lhot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: M. Hoffmann &amp; H. R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K: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E: G. Jer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36960" y="1566720"/>
            <a:ext cx="40546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S: J. Benlloch and A. Sua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: J. Sa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 : Club E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R: G. Tsirigotis and G. Papadourak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U: C. Cs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E: C. Burk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: I. Atli Benedikt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T: C. P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T: R. Kriv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ational contacts for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ologna-process (T3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U : JM Thir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V: I. Slaid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T: A. L. Ga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L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: S. Mylvaga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: W. Gr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T: F. Maciel-Barbosa and MJ Mart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36960" y="1566720"/>
            <a:ext cx="40546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O: D. Popes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: S. Stefan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: 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K: J. Jas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: D. Deniz, B. Karaog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A: A. Zynovchen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K: T. Ward and  M. Dip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ask 3 (200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130960" cy="5054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55840" y="4816440"/>
            <a:ext cx="68612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ublishing in the WEB (continious edit possi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56160" y="1468440"/>
            <a:ext cx="0" cy="446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694400" y="1509840"/>
            <a:ext cx="822240" cy="60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12254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ff0000"/>
                </a:solidFill>
                <a:latin typeface="Arial"/>
              </a:rPr>
              <a:t>Deadline for fixing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ff0000"/>
                </a:solidFill>
                <a:latin typeface="Arial"/>
              </a:rPr>
              <a:t>to be prepared for the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21000" y="5851440"/>
            <a:ext cx="77796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Update of Mon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ceived fi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Update of Doctoral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8:00:25Z</dcterms:created>
  <dc:creator>Maria João Martins</dc:creator>
  <dc:description/>
  <dc:language>en-US</dc:language>
  <cp:lastModifiedBy>Gert Jervan</cp:lastModifiedBy>
  <dcterms:modified xsi:type="dcterms:W3CDTF">2007-11-30T10:58:25Z</dcterms:modified>
  <cp:revision>6</cp:revision>
  <dc:subject/>
  <dc:title>Task 3.3</dc:title>
</cp:coreProperties>
</file>