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9FB-D877-4B01-896C-474FD971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60E-DC4A-4275-95D0-1718F601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EF5-1559-4409-85C0-FF7DB84B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E20-72F7-4CC0-9AF0-E9152EA8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50A-3072-40E2-81C0-E8B6A9D3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668-D9EF-4FE3-B220-5110F4F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32B-0280-4D8F-9A0E-5244D82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837-8CCB-4CCD-ACE9-1D77A86F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7ED-063E-4A36-AB86-890BB42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FE9-25F8-4599-A803-A758CDD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6DA-9B71-44FB-A2A6-BDA4A46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363-EF32-43E2-84D9-87E4EE15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BED3-AE16-43A4-AB1B-42D015570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uning 1.1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ny, Josef, Jan, Olivier, Rado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ction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rent stage of tas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tstanding 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n for final yea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nal out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semination strateg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zation of remaining 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urrent Stage of Task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rget (per partner)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00 Studen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0 Employer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 Coordin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0 Gradua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0 Partners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0,000 Student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, 000 Employer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,000 Gradua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rrently: N = 2,438 !!!!!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utstanding work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ew current sample by Countr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mail all partners to chase respons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pecific email to Country Coordinator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ext deadline - end January 20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port, collate &amp; merge data 18th Feb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itial Analysis 14th March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tion @ Grenob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nal report Prepar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lan for Final Year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itial data analysis &amp; presentation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ch 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nal report initial outlin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anuary 08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vision &amp; finalize repor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d July 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blish final repor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d August 0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nal Repor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per report - monograph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b vers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uestionnaire analys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scriptive Analysi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neric Competenc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ecific Competenc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nguage Stud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arative Analys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logn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ith other disciplines analysed using Tuning methodolog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514600"/>
            <a:ext cx="8382240" cy="76320"/>
          </a:xfrm>
          <a:prstGeom prst="rect">
            <a:avLst/>
          </a:prstGeom>
          <a:gradFill rotWithShape="0">
            <a:gsLst>
              <a:gs pos="0">
                <a:srgbClr val="fff800"/>
              </a:gs>
              <a:gs pos="50000">
                <a:srgbClr val="ff0005"/>
              </a:gs>
              <a:gs pos="100000">
                <a:srgbClr val="fff8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4386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semin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ferenc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EEI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EFI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IE (European Association for International Education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ES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ournal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EEE Edu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ternational / European Journal of Engineering Educa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0:41:38Z</dcterms:created>
  <dc:creator>Tony Ward</dc:creator>
  <dc:description/>
  <dc:language>en-US</dc:language>
  <cp:lastModifiedBy>Tony Ward</cp:lastModifiedBy>
  <dcterms:modified xsi:type="dcterms:W3CDTF">2007-11-30T13:53:20Z</dcterms:modified>
  <cp:revision>6</cp:revision>
  <dc:subject/>
  <dc:title>Tuning 1.1</dc:title>
</cp:coreProperties>
</file>