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3CB-0C6C-42C2-B954-FB6C2093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1D2-569F-492E-8263-A8A950A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5AA-7B97-4803-9A45-5E2C61A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BCB-7197-4EEA-836A-4EB32EF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DD4D-ED48-427F-ABD5-AE08E0C7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79E1-2C1C-4148-927E-E68F8B3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385A-9188-4875-8DC8-8FD7CABC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9E15-70D7-423E-BEFD-4E130B69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C159-6BA2-49D7-B937-DFF5C9F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B8C-C71C-46FA-B87C-BDEFCB39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1D3D-3228-4000-A61F-6F8EDDC2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7C0-CF52-4EDF-B9D6-C9C8ED1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B4E1-945E-4E39-9021-9BC77D2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1FE8-C1C4-482D-8775-B79F3AE0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111B-5362-4B7C-9E2E-62EC9831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4AE-B6A5-4F96-9CC7-F87B3541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CACA-ACB1-40B9-A9FC-881AEFD9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C22-47E4-460B-BE34-FB5B9D2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1CF-D1D3-4FC1-92CA-AF79E8B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2E0-3D60-4482-982B-47FAE145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A37-71F6-4B3C-AC3A-CF43533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A53-7BBA-4C69-96BA-507FFF5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A62-5116-4DA6-B274-B1CC5CA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008-FD95-49E3-8911-D4032A4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9EE-697E-4E9C-A870-01536C671C9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BE4-9395-4BAB-BB02-18C52A83971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nitoring Group Work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eraklion, November 2007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élène FRÉMONT  (Université de Bordeaux, Fra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an Carlos BURGUILLO-RIAL (Universidade de Vigo, Spai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ziana VANATORU (Board of European Students of Technolog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hal CHMELA (Brno University of Technology, Czech Rep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ovide feedback at the different tasks respons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ract with the Managing Bo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ervise the project until January 2007 (progress repor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ovid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struc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rite a document for the Progress Re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2A6-7BB8-41F7-ADBA-2FCFDEEDCA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ing Feed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, facilities, cultural and culinary organization has been very goo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We thank Prof. George Papadourakis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F2B-D200-42E9-9A31-911956AEC7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naire Web site Moni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lot of work have been put into the questionnai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so the Questionnaire Web site developed needed very strong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veral people were participating to the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</a:rPr>
              <a:t>We thank all of them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33A-89B9-42F6-935C-C50927BBA7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naire Monitoring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stionnaire Web site had some complains concerning management from the partner point of 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stionaires are a bit difficult to be filled because of their number and complexity =&gt; Users need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s can be a problem: we have to know and manage those difficulties in adv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t ready for that and remember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We should not relax now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1AA-ADE9-475A-AE7A-2B55919875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attention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05320" y="3886200"/>
          <a:ext cx="177480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886200"/>
                    <a:ext cx="177480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rnal Monitoring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es Danto from Bordeau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or de Kosin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rge Estev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tín Llamas (IEEE Iberian Education Chap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son known by Oliv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504-4BDB-48D4-8C91-32759BB3AB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itoring Group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4:35:54Z</dcterms:created>
  <dc:creator>SEC</dc:creator>
  <dc:description/>
  <dc:language>en-US</dc:language>
  <cp:lastModifiedBy>JC</cp:lastModifiedBy>
  <dcterms:modified xsi:type="dcterms:W3CDTF">2007-12-01T14:54:25Z</dcterms:modified>
  <cp:revision>88</cp:revision>
  <dc:subject/>
  <dc:title>Monitoring Group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