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FCA-C983-4C46-BA86-D404320A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1AC-6D71-444E-AE3E-126542DD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1C9-0B48-4553-81B2-FF12BDC0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CBF-EDA2-4334-8BA9-EAEA95C3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196B-7857-4F7D-AAD2-4DB8B2F9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728-AB4A-4A5F-9839-FD8832CA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6DD-CD39-4A02-8ADA-2A6CB238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6A9-8AC1-4B1C-9AEB-A6B726D2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3AE-B327-46E9-8A8E-B8983927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047-423D-4EBF-A9EC-BE0DC47C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CD0-4869-4890-AF40-3EC0763C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221-C7DB-44E5-91AA-EDDA994C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A32B-BBB7-4197-8189-47E84E8D3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Constitution of the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2997360"/>
            <a:ext cx="670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Maciel Barbosa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PT)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yril Burkley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Michael Hoffmann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DE) 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Romanas Krivickas (LT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Albert Leone-Ganado (MT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Saba Mylvaganam (NO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George Papadourakis (GR)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Daniel Pasquet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FR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Georgios Tsirigoti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(G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1484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iculties -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989000"/>
            <a:ext cx="80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 some countries there is not yet any accredi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ansient from program accreditation to a system accreditation in some cou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o pays the expenses (government, university, other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ster programs to be accredited in every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s industry placement compulsory in every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ust ECTS criteria be completed to assess methodology and content in order to produce comparable accreditation procedu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24000" y="1484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remains to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98900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stallation of the data base including the answers of the questionna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valuation of the questionna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positions for harmonization of accreditation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Different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2781360"/>
            <a:ext cx="6705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Writ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all th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end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D. Pasqu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Receiv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M. Barb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tatistics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G. Papadoura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321300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ommunication at Pragu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tatistical results of the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Fin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Answers to the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781360"/>
            <a:ext cx="6705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22 received from 18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ome countries: several accreditation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(DE: 6, FR: 3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209680"/>
            <a:ext cx="80773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accreditatio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compulsory to deliver engineering degrees in EIE?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6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given by</a:t>
            </a: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6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University (ies)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5%  (several possi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rofessional body (ies)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5%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ndependent agency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given to</a:t>
            </a: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 programme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7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 department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the whole institution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5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The accreditation body is constituted b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ngineers in industr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mbers of accreditation bod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5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209680"/>
            <a:ext cx="80773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accreditatio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Is the accreditation body itself subject to an accreditation or validation proces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Yes 5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Are there links with other accreditation bodie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uropean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ften do not know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Does the accreditation include quality assurance measur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7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41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Surveyor managing team meeting </a:t>
            </a:r>
            <a:br>
              <a:rPr sz="2800"/>
            </a:b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1052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1557360"/>
          <a:ext cx="8351640" cy="4508640"/>
        </p:xfrm>
        <a:graphic>
          <a:graphicData uri="http://schemas.openxmlformats.org/drawingml/2006/table">
            <a:tbl>
              <a:tblPr/>
              <a:tblGrid>
                <a:gridCol w="2984400"/>
                <a:gridCol w="753840"/>
                <a:gridCol w="746280"/>
                <a:gridCol w="2119320"/>
                <a:gridCol w="17478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documentation provided in adva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ted during the visi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ic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examination scrip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ination pap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s performa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ademic staf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ruit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arch activit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loyment of gradu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aboration with indust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ilit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reports/thes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. Evaluation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276640"/>
            <a:ext cx="7488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frequency of the visit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erage 5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size of the visiting pane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erage 4.3 pers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How is it composed of?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ademics:  86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dustrial:  55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duration of the visit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erage 2.3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om do the panel meet during their vis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udents  91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ademic staff 95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chnical staff  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ministrative staff  82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mployers  36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raduates  41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managing team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eraklion November 30th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2852640"/>
            <a:ext cx="806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To whom do the review panel repor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overnment  50%    university  32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independent agency   41%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o makes the final decision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overnment  55%    independent agency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6%  no answer 9%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are the different possible decision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ll accreditation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9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creditation for reduced period of time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 accreditation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ditional non-compulsory recommendation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12:39:06Z</dcterms:created>
  <dc:creator>pasquet</dc:creator>
  <dc:description/>
  <dc:language>en-US</dc:language>
  <cp:lastModifiedBy>user</cp:lastModifiedBy>
  <dcterms:modified xsi:type="dcterms:W3CDTF">2007-11-30T11:01:28Z</dcterms:modified>
  <cp:revision>32</cp:revision>
  <dc:subject/>
  <dc:title>Surveyor working group meeting Craiova June 3rd, 2006</dc:title>
</cp:coreProperties>
</file>