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65DAA-290D-4F38-A8A8-3BC87B2A0E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8915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31440" y="3930840"/>
            <a:ext cx="8915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84D2B-1ABD-4A09-963E-7E8097B815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4350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199840" y="1566360"/>
            <a:ext cx="4350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440" y="3930840"/>
            <a:ext cx="4350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199840" y="3930840"/>
            <a:ext cx="4350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3D32C-4486-4644-8318-C0A4E41876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28706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646080" y="1566360"/>
            <a:ext cx="28706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660720" y="1566360"/>
            <a:ext cx="28706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31440" y="3930840"/>
            <a:ext cx="28706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646080" y="3930840"/>
            <a:ext cx="28706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660720" y="3930840"/>
            <a:ext cx="28706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EF11D-8F93-472F-8A06-0F4D2FBA99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31440" y="1566360"/>
            <a:ext cx="89154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C81BE-7A41-4540-8BFD-218BB89E85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8915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B3B98-CF9B-41A5-BA3D-A9091AD656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4350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840" y="1566360"/>
            <a:ext cx="4350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350A5-1EE8-4C26-B61D-89326A6B8E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95A56-2221-4BA9-BE50-30609CD226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911240" y="274680"/>
            <a:ext cx="7493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D561A-E4B7-4D97-B1FB-9EE60E1BD9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4350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99840" y="1566360"/>
            <a:ext cx="4350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31440" y="3930840"/>
            <a:ext cx="4350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CCEAE-BE6A-4EDD-977E-EA55FDFCF9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4350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9840" y="1566360"/>
            <a:ext cx="4350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99840" y="3930840"/>
            <a:ext cx="4350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013EB-85AD-45CF-9A59-69DEE79C58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4350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99840" y="1566360"/>
            <a:ext cx="4350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1440" y="3930840"/>
            <a:ext cx="8915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1B878-2124-4E28-8CB2-10EB71A148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65240" cy="6858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219320"/>
            <a:ext cx="165240" cy="56386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216480" y="6553080"/>
            <a:ext cx="179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reta:29 11 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7616880" y="6356520"/>
            <a:ext cx="122400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B382E-C0E0-4193-B49C-08D649A1805D}" type="slidenum">
              <a:rPr b="1" lang="fr-FR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9404280" y="6432120"/>
            <a:ext cx="50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788E7-550D-4A02-A2DA-B08A14A1C0E2}" type="slidenum">
              <a:rPr b="1" lang="fr-FR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254160" y="274680"/>
          <a:ext cx="1657080" cy="952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4160" y="274680"/>
                    <a:ext cx="165708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" name=""/>
          <p:cNvGraphicFramePr/>
          <p:nvPr/>
        </p:nvGraphicFramePr>
        <p:xfrm>
          <a:off x="8821800" y="6300720"/>
          <a:ext cx="838080" cy="557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821800" y="6300720"/>
                    <a:ext cx="83808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" name=""/>
          <p:cNvGraphicFramePr/>
          <p:nvPr/>
        </p:nvGraphicFramePr>
        <p:xfrm>
          <a:off x="8148600" y="6318360"/>
          <a:ext cx="681120" cy="539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148600" y="6318360"/>
                    <a:ext cx="68112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" name=""/>
          <p:cNvGraphicFramePr/>
          <p:nvPr/>
        </p:nvGraphicFramePr>
        <p:xfrm>
          <a:off x="2505240" y="2060640"/>
          <a:ext cx="4437000" cy="40003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505240" y="2060640"/>
                    <a:ext cx="4437000" cy="40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" name=""/>
          <p:cNvSpPr/>
          <p:nvPr/>
        </p:nvSpPr>
        <p:spPr>
          <a:xfrm>
            <a:off x="415800" y="1413000"/>
            <a:ext cx="9396360" cy="46195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body"/>
          </p:nvPr>
        </p:nvSpPr>
        <p:spPr>
          <a:xfrm>
            <a:off x="631440" y="1566360"/>
            <a:ext cx="8915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9440" y="1714320"/>
            <a:ext cx="87915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095200" y="274680"/>
            <a:ext cx="722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ction T3.3 of Surveyor: Portal on EIE curric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3480" y="2092320"/>
            <a:ext cx="9564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apping the state of the art on Master degree in the spirit of Bologna proce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nd International ma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7600" y="3295800"/>
            <a:ext cx="9012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 make a survey on the organization of mobility at  university level in E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4275000"/>
            <a:ext cx="901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 gather information about mobility but from the student point of 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1360" y="1608120"/>
            <a:ext cx="2928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57644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Questionnaire for EIE surveyor </a:t>
            </a:r>
            <a:r>
              <a:rPr b="0" i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19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2859120"/>
            <a:ext cx="756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Questionnaire for the mobility contact at university level </a:t>
            </a:r>
            <a:r>
              <a:rPr b="0" i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9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887640"/>
            <a:ext cx="65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Questionnaire for the mobility at student level</a:t>
            </a:r>
            <a:r>
              <a:rPr b="0" i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135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73280" y="814320"/>
            <a:ext cx="416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670120" y="4687920"/>
            <a:ext cx="416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issem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2960" y="5334120"/>
            <a:ext cx="90601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ublication: Sefi conference and EAEEI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per document about good practice on mobility and existing International ma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nd a flyer of the result to all International Department of our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2T13:46:50Z</dcterms:created>
  <dc:creator>INPG</dc:creator>
  <dc:description/>
  <dc:language>en-US</dc:language>
  <cp:lastModifiedBy>yh</cp:lastModifiedBy>
  <cp:lastPrinted>2001-02-27T14:19:08Z</cp:lastPrinted>
  <dcterms:modified xsi:type="dcterms:W3CDTF">2007-11-30T15:23:55Z</dcterms:modified>
  <cp:revision>552</cp:revision>
  <dc:subject/>
  <dc:title>Aucun titre de diapositive</dc:title>
</cp:coreProperties>
</file>