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BBA-50A8-4121-A0DC-96676989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583-6FFE-4DCD-92A5-99FE1612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10E-EE14-4A93-8C96-25F8D138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8A7-4EE7-4939-AFAF-6AE02F55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55E-67E7-496A-B2A9-A7242BA0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67A-C871-4C3C-922C-E0B29E54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2D9-1B50-4CB5-8088-8FCE8C7B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B22-617F-4757-B6B9-966D9AEA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189-EB31-47C9-AED8-9D81FE16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3B6-5CC1-4FC0-BD46-9025C811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0E3-C891-4284-968A-C1AF182F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0B7-19B8-4D72-B83F-5F1082F7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EA94-42F9-42AF-8C3B-4FDF2E830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20464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ηση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Joseph Bar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É.P.L. (ex-SUALEM… since Sep 2007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οργο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orgos Papadoura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Ε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tis - Irak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- Orga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untry : 1 Resp. for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as : Giorgos Tsirigotis, Kavala T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ia : Bachivarov, Bucharest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nd :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were : to be done for 31/12/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- I/O Strategy (see spreadshe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very country : stakeholder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every EIE-S T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we dissemin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//,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we g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it, him, th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a graphic cha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HEI may provi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paper, CD,… cos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onference (end-Sep 2008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xl ? Why ? Elsewhere ? Impact ? Cos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MUS Accompanying Measure for 1 ye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: Feb-Ma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es, free or pay for resul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– Thank You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me your opinion or any further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me asap your PPTs for spreadsheet fulfilment (detailed resul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me national disseminators name, if you m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me or having them sending me, details (unwritteable in the spreadsheet…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form will be prepa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– Milestone : GRENO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tailed planning until Grenoble and after will be provided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2:27:27Z</dcterms:created>
  <dc:creator>Prof. Joseph Barsics</dc:creator>
  <dc:description/>
  <dc:language>en-US</dc:language>
  <cp:lastModifiedBy>Prof. Joseph Barsics</cp:lastModifiedBy>
  <dcterms:modified xsi:type="dcterms:W3CDTF">2007-12-01T13:17:45Z</dcterms:modified>
  <cp:revision>2</cp:revision>
  <dc:subject/>
  <dc:title>Diapositive 1</dc:title>
</cp:coreProperties>
</file>