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C45F-0AD4-414A-99AA-9D5F0FA9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9D99-698E-4014-A3EC-D26A0F58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D1AC-C342-4C5E-BF95-87C777F09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C69C-F457-49EB-B974-4EA440E6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820-4FBF-468A-8160-91071B2F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72D0-5A26-4073-9150-540019FB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EC9-BB47-4188-B2A7-52FE7D5D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53F-4745-4472-9C77-6D0C041A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640-2C09-4E1B-A47C-655D05BA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7DD4-F4CC-443C-AD21-766E01A8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7F77-3BF7-468E-9A1A-4760565B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689200" y="404640"/>
            <a:ext cx="584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340000" y="3950640"/>
            <a:ext cx="6346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2240" y="184428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34000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592240" y="3950640"/>
            <a:ext cx="30970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8596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31920" y="184428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34000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48596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31920" y="3950640"/>
            <a:ext cx="2043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oran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32120" y="3357360"/>
            <a:ext cx="584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43280" y="4365360"/>
            <a:ext cx="584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78720" indent="-145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5828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81576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0490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2340000" y="422100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68360" y="344340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5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oran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68360" y="6381720"/>
            <a:ext cx="867564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oran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ba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340000" y="638172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gree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2120" y="3357360"/>
            <a:ext cx="584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43280" y="4365360"/>
            <a:ext cx="584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78720" indent="-145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5828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81576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0490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2340000" y="422100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68360" y="344340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5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gree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68360" y="6381720"/>
            <a:ext cx="867564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2340000" y="638172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blu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32120" y="3357360"/>
            <a:ext cx="584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843280" y="4365360"/>
            <a:ext cx="584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378720" indent="-14544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5828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81576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049040" indent="-1162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049040" indent="-11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2340000" y="422100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268360" y="344340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5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blu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468360" y="6381720"/>
            <a:ext cx="867564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" descr="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78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2340000" y="126828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2340000" y="6381720"/>
            <a:ext cx="6804000" cy="0"/>
          </a:xfrm>
          <a:prstGeom prst="line">
            <a:avLst/>
          </a:prstGeom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411280" y="6437160"/>
            <a:ext cx="67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Board of European Students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2268360" y="490680"/>
            <a:ext cx="57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5f5f5f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61.xml"/><Relationship Id="rId1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est.eu.org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31760" y="3357360"/>
            <a:ext cx="6311880" cy="850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f5f5f"/>
                </a:solidFill>
                <a:latin typeface="Arial"/>
              </a:rPr>
              <a:t>What is </a:t>
            </a:r>
            <a:r>
              <a:rPr b="1" lang="en-GB" sz="4500" spc="-1" strike="noStrike">
                <a:solidFill>
                  <a:srgbClr val="82c341"/>
                </a:solidFill>
                <a:latin typeface="Arial"/>
              </a:rPr>
              <a:t>BEST</a:t>
            </a:r>
            <a:r>
              <a:rPr b="1" lang="en-GB" sz="4500" spc="-1" strike="noStrike">
                <a:solidFill>
                  <a:srgbClr val="5f5f5f"/>
                </a:solidFill>
                <a:latin typeface="Arial"/>
              </a:rPr>
              <a:t> about?</a:t>
            </a:r>
            <a:endParaRPr b="1" lang="en-US" sz="4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2627280" y="4292640"/>
            <a:ext cx="6516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B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oard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of 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E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uropean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 S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tudents of </a:t>
            </a:r>
            <a:r>
              <a:rPr b="1" lang="en-GB" sz="2400" spc="-1" strike="noStrike">
                <a:solidFill>
                  <a:srgbClr val="82c341"/>
                </a:solidFill>
                <a:latin typeface="Arial"/>
                <a:ea typeface="Arial"/>
              </a:rPr>
              <a:t>T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Arial"/>
              </a:rPr>
              <a:t>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 and EIE-Surveyor 1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ymposium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d of August – Beginning of Septemb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 and EIE-Surveyor 2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 possibl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szprem (Hungary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alborg (Denmark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und from EIE-Survey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4000 euro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fess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 and EIE-Surveyor 3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Committe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acilita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rite Report (one month after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inal answer from lb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5f5f5f"/>
                </a:solidFill>
                <a:latin typeface="Arial"/>
              </a:rPr>
              <a:t>Sunday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5f5f5f"/>
                </a:solidFill>
                <a:latin typeface="Arial"/>
              </a:rPr>
              <a:t>10 February 2008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Schedule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1280" y="1989000"/>
            <a:ext cx="8964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credit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ologna Proc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ther…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artner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411280" y="1557360"/>
            <a:ext cx="6624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  <a:ea typeface="Arial"/>
              </a:rPr>
              <a:t>- Corporate partner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425680" y="2971800"/>
            <a:ext cx="662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  <a:ea typeface="Arial"/>
              </a:rPr>
              <a:t>- Career Support partner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2502000" y="4869000"/>
            <a:ext cx="66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  <a:ea typeface="Arial"/>
              </a:rPr>
              <a:t>- Supporter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5" descr="pgcom_logo_top"/>
          <p:cNvPicPr/>
          <p:nvPr/>
        </p:nvPicPr>
        <p:blipFill>
          <a:blip r:embed="rId1"/>
          <a:stretch/>
        </p:blipFill>
        <p:spPr>
          <a:xfrm>
            <a:off x="2556000" y="205740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"/>
          <p:cNvPicPr/>
          <p:nvPr/>
        </p:nvPicPr>
        <p:blipFill>
          <a:blip r:embed="rId2"/>
          <a:stretch/>
        </p:blipFill>
        <p:spPr>
          <a:xfrm>
            <a:off x="4140360" y="20574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7" descr="Infineon+Logo+4c"/>
          <p:cNvPicPr/>
          <p:nvPr/>
        </p:nvPicPr>
        <p:blipFill>
          <a:blip r:embed="rId3"/>
          <a:stretch/>
        </p:blipFill>
        <p:spPr>
          <a:xfrm>
            <a:off x="3730680" y="4118040"/>
            <a:ext cx="1272960" cy="787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9" descr="Schlumberger logo HIGH"/>
          <p:cNvPicPr/>
          <p:nvPr/>
        </p:nvPicPr>
        <p:blipFill>
          <a:blip r:embed="rId4"/>
          <a:stretch/>
        </p:blipFill>
        <p:spPr>
          <a:xfrm>
            <a:off x="7093080" y="2276640"/>
            <a:ext cx="1780920" cy="398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0" descr=""/>
          <p:cNvPicPr/>
          <p:nvPr/>
        </p:nvPicPr>
        <p:blipFill>
          <a:blip r:embed="rId5"/>
          <a:stretch/>
        </p:blipFill>
        <p:spPr>
          <a:xfrm>
            <a:off x="3218040" y="3573360"/>
            <a:ext cx="2232000" cy="292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2" descr=""/>
          <p:cNvPicPr/>
          <p:nvPr/>
        </p:nvPicPr>
        <p:blipFill>
          <a:blip r:embed="rId6"/>
          <a:stretch/>
        </p:blipFill>
        <p:spPr>
          <a:xfrm>
            <a:off x="6227640" y="5442120"/>
            <a:ext cx="1374840" cy="606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3" descr=""/>
          <p:cNvPicPr/>
          <p:nvPr/>
        </p:nvPicPr>
        <p:blipFill>
          <a:blip r:embed="rId7"/>
          <a:stretch/>
        </p:blipFill>
        <p:spPr>
          <a:xfrm>
            <a:off x="3565440" y="5505480"/>
            <a:ext cx="1054080" cy="398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4" descr=""/>
          <p:cNvPicPr/>
          <p:nvPr/>
        </p:nvPicPr>
        <p:blipFill>
          <a:blip r:embed="rId8"/>
          <a:stretch/>
        </p:blipFill>
        <p:spPr>
          <a:xfrm>
            <a:off x="2195640" y="5373720"/>
            <a:ext cx="1030320" cy="6141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5" descr=""/>
          <p:cNvPicPr/>
          <p:nvPr/>
        </p:nvPicPr>
        <p:blipFill>
          <a:blip r:embed="rId9"/>
          <a:stretch/>
        </p:blipFill>
        <p:spPr>
          <a:xfrm>
            <a:off x="7883640" y="545796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6" descr=""/>
          <p:cNvPicPr/>
          <p:nvPr/>
        </p:nvPicPr>
        <p:blipFill>
          <a:blip r:embed="rId10"/>
          <a:stretch/>
        </p:blipFill>
        <p:spPr>
          <a:xfrm>
            <a:off x="4924440" y="5533920"/>
            <a:ext cx="1044720" cy="37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8" descr="[i]+Bekaert"/>
          <p:cNvPicPr/>
          <p:nvPr/>
        </p:nvPicPr>
        <p:blipFill>
          <a:blip r:embed="rId11"/>
          <a:stretch/>
        </p:blipFill>
        <p:spPr>
          <a:xfrm>
            <a:off x="5318280" y="2133720"/>
            <a:ext cx="1414440" cy="6109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3" descr="%5Bi%5D+EPO"/>
          <p:cNvPicPr/>
          <p:nvPr/>
        </p:nvPicPr>
        <p:blipFill>
          <a:blip r:embed="rId12"/>
          <a:stretch/>
        </p:blipFill>
        <p:spPr>
          <a:xfrm>
            <a:off x="6156360" y="3462480"/>
            <a:ext cx="1227240" cy="614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5" descr=""/>
          <p:cNvPicPr/>
          <p:nvPr/>
        </p:nvPicPr>
        <p:blipFill>
          <a:blip r:embed="rId13"/>
          <a:stretch/>
        </p:blipFill>
        <p:spPr>
          <a:xfrm>
            <a:off x="6429240" y="4357800"/>
            <a:ext cx="1435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Partner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67" name="Picture 15" descr="cfes_logo1"/>
          <p:cNvPicPr/>
          <p:nvPr/>
        </p:nvPicPr>
        <p:blipFill>
          <a:blip r:embed="rId1"/>
          <a:stretch/>
        </p:blipFill>
        <p:spPr>
          <a:xfrm>
            <a:off x="6156360" y="3141720"/>
            <a:ext cx="1309680" cy="144144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4"/>
          <p:cNvSpPr/>
          <p:nvPr/>
        </p:nvSpPr>
        <p:spPr>
          <a:xfrm>
            <a:off x="2268360" y="1773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ther organisations, cooperating with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7" descr="bonding_big"/>
          <p:cNvPicPr/>
          <p:nvPr/>
        </p:nvPicPr>
        <p:blipFill>
          <a:blip r:embed="rId2"/>
          <a:stretch/>
        </p:blipFill>
        <p:spPr>
          <a:xfrm>
            <a:off x="3132000" y="3141720"/>
            <a:ext cx="1211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9"/>
          <p:cNvSpPr/>
          <p:nvPr/>
        </p:nvSpPr>
        <p:spPr>
          <a:xfrm>
            <a:off x="2124000" y="479736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onding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5364000" y="479736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FES (Can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Contact u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6875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case of any questions, please contact us: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2c341"/>
                </a:solidFill>
                <a:latin typeface="Arial"/>
              </a:rPr>
              <a:t>educo@BEST.eu.org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 visit our websit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EST.eu.org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79280" y="1989000"/>
            <a:ext cx="179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Gliwice_Krzysztof_Pokora_1"/>
          <p:cNvPicPr/>
          <p:nvPr/>
        </p:nvPicPr>
        <p:blipFill>
          <a:blip r:embed="rId1"/>
          <a:stretch/>
        </p:blipFill>
        <p:spPr>
          <a:xfrm>
            <a:off x="5508720" y="1413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340000" y="184464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ES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nal work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ur partn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year’s achieve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urrent hot issu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ntact u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BEST overview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195640" y="1773360"/>
            <a:ext cx="6264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ur target group - students of technology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Voluntary work since 1989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6 Univers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countr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bout 2000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ctive memb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aching 900 000 studen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1" descr="C:\BEST\updates\map_of_europe_2007GA_withouttowns_lightgreen.wmf"/>
          <p:cNvPicPr/>
          <p:nvPr/>
        </p:nvPicPr>
        <p:blipFill>
          <a:blip r:embed="rId1"/>
          <a:stretch/>
        </p:blipFill>
        <p:spPr>
          <a:xfrm>
            <a:off x="5334120" y="2735280"/>
            <a:ext cx="38862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Our servic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5545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plementary educ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ducational involveme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reer Suppor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Ana_RelvaPereira_05"/>
          <p:cNvPicPr/>
          <p:nvPr/>
        </p:nvPicPr>
        <p:blipFill>
          <a:blip r:embed="rId1"/>
          <a:stretch/>
        </p:blipFill>
        <p:spPr>
          <a:xfrm>
            <a:off x="5219640" y="3357720"/>
            <a:ext cx="37450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Our tool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4775040" y="3070080"/>
            <a:ext cx="1800360" cy="6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3983040" y="3141720"/>
            <a:ext cx="266400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4427640" y="1754280"/>
            <a:ext cx="2469960" cy="692280"/>
          </a:xfrm>
          <a:prstGeom prst="ellipse">
            <a:avLst/>
          </a:prstGeom>
          <a:solidFill>
            <a:srgbClr val="82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2195640" y="4633920"/>
            <a:ext cx="3024000" cy="692280"/>
          </a:xfrm>
          <a:prstGeom prst="ellipse">
            <a:avLst/>
          </a:prstGeom>
          <a:solidFill>
            <a:srgbClr val="fba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Univers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6189840" y="4633920"/>
            <a:ext cx="2781000" cy="692280"/>
          </a:xfrm>
          <a:prstGeom prst="ellipse">
            <a:avLst/>
          </a:prstGeom>
          <a:solidFill>
            <a:srgbClr val="007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ompa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 flipH="1">
            <a:off x="3850920" y="2492280"/>
            <a:ext cx="1079640" cy="2087640"/>
          </a:xfrm>
          <a:prstGeom prst="line">
            <a:avLst/>
          </a:prstGeom>
          <a:ln w="38160">
            <a:solidFill>
              <a:srgbClr val="7070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2"/>
          <p:cNvSpPr/>
          <p:nvPr/>
        </p:nvSpPr>
        <p:spPr>
          <a:xfrm>
            <a:off x="6443640" y="2492280"/>
            <a:ext cx="1584360" cy="2016360"/>
          </a:xfrm>
          <a:prstGeom prst="line">
            <a:avLst/>
          </a:prstGeom>
          <a:ln w="38160">
            <a:solidFill>
              <a:srgbClr val="7070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 flipH="1">
            <a:off x="5292360" y="5013360"/>
            <a:ext cx="865080" cy="0"/>
          </a:xfrm>
          <a:prstGeom prst="line">
            <a:avLst/>
          </a:prstGeom>
          <a:ln w="38160">
            <a:solidFill>
              <a:srgbClr val="70707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2627280" y="2781360"/>
            <a:ext cx="21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European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2627280" y="3357720"/>
            <a:ext cx="15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7" descr="BEST logo 2001 - 300"/>
          <p:cNvPicPr/>
          <p:nvPr/>
        </p:nvPicPr>
        <p:blipFill>
          <a:blip r:embed="rId1"/>
          <a:stretch/>
        </p:blipFill>
        <p:spPr>
          <a:xfrm>
            <a:off x="5148360" y="3213000"/>
            <a:ext cx="1081080" cy="8175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8"/>
          <p:cNvSpPr/>
          <p:nvPr/>
        </p:nvSpPr>
        <p:spPr>
          <a:xfrm>
            <a:off x="4859280" y="5661000"/>
            <a:ext cx="17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Internal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4932360" y="5300640"/>
            <a:ext cx="15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6913440" y="2708280"/>
            <a:ext cx="22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areer C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7402680" y="314172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Internal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7545240" y="3573360"/>
            <a:ext cx="15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7070"/>
                </a:solidFill>
                <a:latin typeface="Arial"/>
                <a:ea typeface="Arial"/>
              </a:rPr>
              <a:t>BEST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645480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Complementary education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687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chnological cours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gineering competi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areer ev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nts on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nce 199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ducational involvemen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68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EST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s the member of several European-funded projects that investigate higher educ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ents on Education that gather input from students and academia </a:t>
            </a:r>
            <a:r>
              <a:rPr b="0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improving European educ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Educational Committee- EduCo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operation with T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IE-Survey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uroPACE (SPUTNIC, VM-BAS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uture Cooper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-65160">
              <a:spcBef>
                <a:spcPts val="700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f5f5f"/>
                </a:solidFill>
                <a:latin typeface="Arial"/>
              </a:rPr>
              <a:t>UNESC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8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3280" y="2147760"/>
            <a:ext cx="221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689200" y="404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Eo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340000" y="1844280"/>
            <a:ext cx="634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Cos or Symposiu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cussions in group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tudents 20 - 3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ofess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panie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c3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79280" y="198900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56:45Z</dcterms:created>
  <dc:creator>Martin Varvas</dc:creator>
  <dc:description/>
  <dc:language>en-US</dc:language>
  <cp:lastModifiedBy>KATERINA</cp:lastModifiedBy>
  <dcterms:modified xsi:type="dcterms:W3CDTF">2007-12-01T08:57:53Z</dcterms:modified>
  <cp:revision>122</cp:revision>
  <dc:subject/>
  <dc:title>Slide 1</dc:title>
</cp:coreProperties>
</file>