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92F-0409-4BB6-9536-ACF8C13C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5AA-19EB-4003-B588-DEA65D4D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88C-DB4F-417E-B62D-9635430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74B-FCD5-41F6-8E7F-7EA52C06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1BE3-F682-4B71-BF69-7D502B81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8854-C4D4-4D12-A7A5-88564F9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4EA1-BB12-4B8A-ADD2-1151353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FDBE-4B42-45A1-B7A7-2ECBFB5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1E1-7036-4A28-B40E-6AAF34D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A57-7073-4307-B185-4EDF5C1D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EC71-546C-426E-90BD-C8268D0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501-B0EC-4B79-A823-09E194FF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680-B080-44DD-84F1-0910847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C56-D99D-42CB-B85D-5BDB181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FFD-6E4E-4C6D-99CD-2867478E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2C7-A467-40CE-857C-25FB5A43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AC9-ECB6-4AF3-94AE-B6FE6C71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BE1-7334-4A10-BC93-9A317708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D93-6D5B-40BC-B412-33263D2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DA9-869A-4094-8FA7-BB1E683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287-E9DC-4ACD-AC47-5617A886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96D-7877-4DA4-AE10-6D3D29D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9CB-E122-4328-9401-DBED9FE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293-E43D-4F7B-85B0-801FA54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68F-F023-48EB-BCB9-B305277A4F9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F0D2-8F47-4D74-BF0A-CA1D71DA96E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morythm.com/scorm/" TargetMode="External"/><Relationship Id="rId2" Type="http://schemas.openxmlformats.org/officeDocument/2006/relationships/hyperlink" Target="http://www.memorythm.com/scorm/" TargetMode="External"/><Relationship Id="rId3" Type="http://schemas.openxmlformats.org/officeDocument/2006/relationships/hyperlink" Target="http://www.memorythm.com/scorm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ataloguing and Quality Assessment</a:t>
            </a:r>
            <a:br>
              <a:rPr sz="4200"/>
            </a:b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f Some Resources in EIE Available Through the Internet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9760" y="3313080"/>
            <a:ext cx="783576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Dervis Z. Deniz, Jose L. Mar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urveyor T2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Heraklion, Nov. 30</a:t>
            </a:r>
            <a:r>
              <a:rPr b="0" lang="es-ES" sz="3600" spc="-1" strike="noStrike" baseline="30000">
                <a:solidFill>
                  <a:srgbClr val="006633"/>
                </a:solidFill>
                <a:latin typeface="Garamond"/>
              </a:rPr>
              <a:t>th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-Dec 1</a:t>
            </a:r>
            <a:r>
              <a:rPr b="0" lang="es-ES" sz="3600" spc="-1" strike="noStrike" baseline="30000">
                <a:solidFill>
                  <a:srgbClr val="006633"/>
                </a:solidFill>
                <a:latin typeface="Garamond"/>
              </a:rPr>
              <a:t>st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, 200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80960"/>
            <a:ext cx="7848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Work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s 1-3 &amp; Pilot 4 (F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ing suppo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at: e-Resources for the e-cat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Surv: Survey results for e-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 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Heraklion”) 30 Nov. -1 Dec., 2007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5240" y="1407960"/>
          <a:ext cx="9015120" cy="491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07960"/>
                    <a:ext cx="9015120" cy="49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870600" y="2141640"/>
            <a:ext cx="22320" cy="61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41240" y="2057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 objectives: a schematic descri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12800" y="1994040"/>
            <a:ext cx="3600360" cy="1873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220824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6240" y="2446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84800" y="26427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60800" y="365112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160" y="3578400"/>
            <a:ext cx="64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43160" y="3959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24280" y="147168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1,2,3 &amp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4720" y="4849920"/>
            <a:ext cx="3045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ing suppor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8520" y="5302080"/>
            <a:ext cx="1193760" cy="703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0280" y="530712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2"/>
          </p:cNvCxnSpPr>
          <p:nvPr/>
        </p:nvCxnSpPr>
        <p:spPr>
          <a:xfrm flipH="1" rot="16200000">
            <a:off x="3564000" y="4409640"/>
            <a:ext cx="429120" cy="20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9" idx="4"/>
            <a:endCxn id="94" idx="3"/>
          </p:cNvCxnSpPr>
          <p:nvPr/>
        </p:nvCxnSpPr>
        <p:spPr>
          <a:xfrm flipH="1" flipV="1">
            <a:off x="5716080" y="4659120"/>
            <a:ext cx="286560" cy="995760"/>
          </a:xfrm>
          <a:prstGeom prst="bentConnector4">
            <a:avLst>
              <a:gd name="adj1" fmla="val -80000"/>
              <a:gd name="adj2" fmla="val 677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6146280" y="5994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)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for e-cataloging e-resources (Santand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catalog database with records holding catalog en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s to contain information identifying resources, contents and provide a link to its Internet si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forms based user inter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ors + others to add information about e-learning material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i)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4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based User-Interface for displaying information in the e-catalog database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RM (Sharable Content/Courseware Object Reference Model)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etadat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reed as a potential standard to be studied for classification of e-learning resour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Craiova meeting, decision to use the SCORM as a basis for classif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Bratislava meeting the questionnaire was finalized. Demonstrated Pilot v3 at Prag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zed Progress (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92240"/>
            <a:ext cx="852156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otype web-based software application developed wit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ing of e-catalog entries in the databa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ing of e-catalog entries title, link, author, language, et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record has a link to an e-resource on the Internet. Users can visit e-resources through this web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y primitive questionnai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version of the questionnaire ad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RM L3 compliant e-cat user interface developed and linked with the e-surve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entry limited; no statistical analysis available; user types not clearly se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blem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development and management of the system 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tudents lef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ecause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mited software scop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alized Progress (II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7920" y="1180800"/>
            <a:ext cx="87757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2 Pilot-4 + E-mail suppor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letely new v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f e-cat and e-survey designed and developed (Oct.-Nov.,2007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supporting system has been developed (Sept.-Oct.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test si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memorythm.com/scorm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-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-resources in e-C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 users: can do all what Registered users can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the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questionnaires (e-evaluation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evaluate resources added by him-/her-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modify the resources added by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ser can update their “own” e-resource and “e-evalua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 e-Cat+e-Surv Site + E-mail supporting syste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vailable for real data and use in December 200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Man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rategies for data collection and surve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llection for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110 Surveyor partners to provide 5 internal + 5 extra-Institutional, resources for the e-cat (through the EIE contact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is made easier through relaxation of mandatory fields in the SCORM based e-Cat metadata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line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version of the quality assessment is available and is coupled to basic statistics outp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IE contact person will be requested to direct a group of students (e.g. a class of 20-25) to evaluate e-resources in the e-Cat (each student to evaluate one local and one external sit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to their cour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ol for managing contact persons e-mailing has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ools will be useful for EAEEIE, SMEs and the next proposal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ADMIN</cp:lastModifiedBy>
  <dcterms:modified xsi:type="dcterms:W3CDTF">2007-11-27T10:11:28Z</dcterms:modified>
  <cp:revision>208</cp:revision>
  <dc:subject/>
  <dc:title>T2 </dc:title>
</cp:coreProperties>
</file>